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954-715D-488E-91AA-8596D7D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D56-0DD5-44E7-ACC0-6149064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AE1-D715-4DEF-94A3-14A51D94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907-4F14-4E21-8F19-80D87F0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1A3-F2DC-4B5C-BA91-2865262A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288-F2B9-4C05-8997-75F8D56E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C7C-3598-4878-AE72-28810819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54B-A118-4EAD-B35E-703F52C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81C-A632-4C42-BD08-5C3ACD3C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6CD-8529-4538-95D7-AACD349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98E-BDC2-42AE-B974-C06BC50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91A-1694-46BB-A0FC-4A5C82E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450-D16A-48D1-A149-92E43164D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99"/>
                </a:solidFill>
                <a:latin typeface="Arial"/>
              </a:rPr>
              <a:t>Zašto treba pisati znanstvene članke?</a:t>
            </a:r>
            <a:r>
              <a:rPr b="0" lang="hr-HR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99"/>
                </a:solidFill>
                <a:latin typeface="Arial"/>
              </a:rPr>
              <a:t>Kako odabrati časop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644760"/>
            <a:ext cx="815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US National Library of Medic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biva 2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000 čas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ksira 4,000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D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cience Citation Index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(SCI)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ksira 5,600 vodećih časopisa iz različitih znanstvenih discip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Current Contents/Clinical Medic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deksira 1150 čas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162144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I indeksira manje od 2% časopisa iz zemalja u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emlje u razvoju imaju 24.1% svjetskih znanstvenika a za znanost izdvajaju 5.3% ukupne svjetske 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860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90% relevantnih informacija objavi se</a:t>
            </a:r>
            <a:br>
              <a:rPr sz="3200"/>
            </a:br>
            <a:r>
              <a:rPr b="1" lang="hr-HR" sz="3200" spc="-1" strike="noStrike">
                <a:solidFill>
                  <a:srgbClr val="99ff66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 10% čas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mo 10-15% članaka iz nekog područja je uporab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ovica članaka nikad se ne ci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ovicu časopisa na policama knjižnica nitko nikad ne pogl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838080" y="704160"/>
            <a:ext cx="77709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ff66"/>
                </a:solidFill>
                <a:latin typeface="Arial"/>
              </a:rPr>
              <a:t>Pronađite pravi časop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mojte ga izabrati zbog njegova 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mojte ga izabrati zbog njegova “ugled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aberite ga zbog njegova čitateljstv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ga zanima vaš r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 liječnike ili neku posebnu skup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 istraživ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 upravljače (“policy maker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 ja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38080" y="150120"/>
            <a:ext cx="77709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ff66"/>
                </a:solidFill>
                <a:latin typeface="Arial"/>
              </a:rPr>
              <a:t>Pronađite pravi čas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www.isinet.com/isi/journ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ff33"/>
                </a:solidFill>
                <a:latin typeface="Arial"/>
              </a:rPr>
              <a:t>Current Contents/Clinical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25 kategorija za 1150 čas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nesteziologija i intenzivna skrb: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rdiovaskularne i respiratorne bolesti: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ća i interna medicina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edijatrij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adiologija (i imaging), nuklearna medicin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traživanje/laborat. medicina 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edicinska tehn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1677240"/>
            <a:ext cx="777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vantnost članka za cilj časopisa 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jegovo čitatelj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ažnost poruke članka za čitateljstv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vost poruke čla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nanstvena vjerodostojnost zaključk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a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orisnost članka u održavanju širi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a u časopi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71600" y="609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ff66"/>
                </a:solidFill>
                <a:latin typeface="Arial"/>
              </a:rPr>
              <a:t>Mjerila probira članaka u časopi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zbuđenje (“Wow!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Važ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riginal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Važnost za čitatelj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stinit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asno napisan čla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nimljivo napisan čla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71600" y="609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ff66"/>
                </a:solidFill>
                <a:latin typeface="Arial"/>
              </a:rPr>
              <a:t>Što želi urednik časopisa?</a:t>
            </a:r>
            <a:br>
              <a:rPr sz="2800"/>
            </a:br>
            <a:r>
              <a:rPr b="0" lang="hr-HR" sz="2800" spc="-1" strike="noStrike">
                <a:solidFill>
                  <a:srgbClr val="99ff66"/>
                </a:solidFill>
                <a:latin typeface="Arial"/>
              </a:rPr>
              <a:t>(opet R. Smith, BM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structions to 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uidelines for aut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bmj.com/advic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thelancet.com/author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annals.org/shared/author_inf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Napisati i pripremiti članak strogo prema uputam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71600" y="609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ff66"/>
                </a:solidFill>
                <a:latin typeface="Arial"/>
              </a:rPr>
              <a:t>Proučiti upute au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93880" y="287280"/>
            <a:ext cx="735624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66"/>
                </a:solidFill>
                <a:latin typeface="Arial"/>
              </a:rPr>
              <a:t>Popratno pismo uz članak koji</a:t>
            </a:r>
            <a:br>
              <a:rPr sz="2800"/>
            </a:br>
            <a:r>
              <a:rPr b="0" lang="hr-HR" sz="2800" spc="-1" strike="noStrike">
                <a:solidFill>
                  <a:srgbClr val="99ff66"/>
                </a:solidFill>
                <a:latin typeface="Arial"/>
              </a:rPr>
              <a:t>šaljete u časop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slov članka i imena au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java da rezultati iz članaka nisu nigdje drugdje objavljeni (osim sažetka do 400 riječi) i da članak nije u postupku recenzije ili publiciranja u nekom drugom časopi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zlozi zbog kojih smatrate da bi članak bio zanimljiv čitateljima čas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(opis doprinosa pojedinih autora istraživanju i članku – “contribution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Jer imate nešto važno reći drugim znanstvenic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unaprijedili liječničku prak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potaknuli raspravu i razmišljanje o probl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drugi mogli procijeniti vaš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me and the love of beautiful wom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Napredak u karij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zabavili/zaborav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poduč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a bi utješ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371600" y="609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ff66"/>
                </a:solidFill>
                <a:latin typeface="Arial"/>
              </a:rPr>
              <a:t>Zašto objavljivati radove?</a:t>
            </a:r>
            <a:br>
              <a:rPr sz="2800"/>
            </a:br>
            <a:r>
              <a:rPr b="0" lang="hr-HR" sz="2800" spc="-1" strike="noStrike">
                <a:solidFill>
                  <a:srgbClr val="99ff66"/>
                </a:solidFill>
                <a:latin typeface="Arial"/>
              </a:rPr>
              <a:t>(R. Smith, urednik BM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38400" y="589320"/>
            <a:ext cx="666576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66"/>
                </a:solidFill>
                <a:latin typeface="Arial"/>
              </a:rPr>
              <a:t>PEER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election of articles and approval fo publication by a panel of experts in the fiel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ffcc"/>
                </a:solidFill>
                <a:latin typeface="Arial"/>
              </a:rPr>
              <a:t>Peers = vršnjaci, istovrst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362320" y="1218960"/>
            <a:ext cx="46479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or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93880" y="926280"/>
            <a:ext cx="73562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66"/>
                </a:solidFill>
                <a:latin typeface="Arial"/>
              </a:rPr>
              <a:t>Popratno pismo uz popravljeni člana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hvala urednicima i recenz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govor svakom recenzentu u posebnom odjelj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govor na svaku primjedbu ili pitanje u posebnom  odlom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rgumentirano i pristojno odgovoriti na primjedbe koje smatrate neumjes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14600" y="918000"/>
            <a:ext cx="6094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ff99"/>
                </a:solidFill>
                <a:latin typeface="Arial"/>
              </a:rPr>
              <a:t>       </a:t>
            </a:r>
            <a:r>
              <a:rPr b="1" lang="hr-HR" sz="3200" spc="-1" strike="noStrike">
                <a:solidFill>
                  <a:srgbClr val="ccff99"/>
                </a:solidFill>
                <a:latin typeface="Arial"/>
              </a:rPr>
              <a:t>Idealan čla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rat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M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asno napisan i prika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tp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ez “glupih” po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A:\snoopy.tif"/>
          <p:cNvPicPr/>
          <p:nvPr/>
        </p:nvPicPr>
        <p:blipFill>
          <a:blip r:embed="rId1"/>
          <a:stretch/>
        </p:blipFill>
        <p:spPr>
          <a:xfrm>
            <a:off x="1600200" y="304920"/>
            <a:ext cx="6111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43000" y="1219320"/>
            <a:ext cx="73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A naturalist’s life would be a happy one if he had only to observe and never to wr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Sir Charles Darw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121932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</a:rPr>
              <a:t>The man of science appears to be the only man who has something to say just now, and the only man who does not know how to say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Arial"/>
              </a:rPr>
              <a:t>–</a:t>
            </a:r>
            <a:r>
              <a:rPr b="0" lang="en-GB" sz="4000" spc="-1" strike="noStrike">
                <a:solidFill>
                  <a:srgbClr val="99ff99"/>
                </a:solidFill>
                <a:latin typeface="Arial"/>
              </a:rPr>
              <a:t>Sir James Bar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1203480"/>
            <a:ext cx="82296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1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Journal des Scav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hylosophical Transactions of the Royal Society of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050"/>
          <p:cNvSpPr/>
          <p:nvPr/>
        </p:nvSpPr>
        <p:spPr>
          <a:xfrm>
            <a:off x="1219320" y="2340000"/>
            <a:ext cx="65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71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051"/>
          <p:cNvSpPr/>
          <p:nvPr/>
        </p:nvSpPr>
        <p:spPr>
          <a:xfrm>
            <a:off x="862200" y="1400040"/>
            <a:ext cx="741960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ntroduction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to sam ht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ethod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o sam ra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esults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to sam dobio?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iscussion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to to znač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6"/>
          <p:cNvSpPr/>
          <p:nvPr/>
        </p:nvSpPr>
        <p:spPr>
          <a:xfrm>
            <a:off x="1447920" y="1066680"/>
            <a:ext cx="60195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66"/>
                </a:solidFill>
                <a:latin typeface="Arial"/>
              </a:rPr>
              <a:t>Znanstveni r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ovo znan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vi pu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609480"/>
            <a:ext cx="80773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ilježja komunikacije u zna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noć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ostavnos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zum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3124080" y="1447920"/>
            <a:ext cx="1752840" cy="2286000"/>
            <a:chOff x="3124080" y="1447920"/>
            <a:chExt cx="1752840" cy="2286000"/>
          </a:xfrm>
        </p:grpSpPr>
        <p:sp>
          <p:nvSpPr>
            <p:cNvPr id="52" name="AutoShape 3"/>
            <p:cNvSpPr/>
            <p:nvPr/>
          </p:nvSpPr>
          <p:spPr>
            <a:xfrm>
              <a:off x="3124080" y="1447920"/>
              <a:ext cx="381240" cy="22860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>
              <a:off x="3505320" y="2362320"/>
              <a:ext cx="1371600" cy="3808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6"/>
          <p:cNvSpPr/>
          <p:nvPr/>
        </p:nvSpPr>
        <p:spPr>
          <a:xfrm>
            <a:off x="343080" y="4109040"/>
            <a:ext cx="8458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ff66"/>
                </a:solidFill>
                <a:latin typeface="Arial"/>
              </a:rPr>
              <a:t>Beauty of style and harmony and grace and good rhythm depend on simpl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Pl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913320"/>
            <a:ext cx="777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ff66"/>
                </a:solidFill>
                <a:latin typeface="Arial"/>
              </a:rPr>
              <a:t>Važni savjeti prije početka pis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mate li pravo pitan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este li upotrijebili odgovarajuću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   metodologiju za odgovor na pitan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este li dobro interpretirali podat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nađite pravi časop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učite upute autorim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20:31:17Z</dcterms:created>
  <dc:creator>prof dr Ana Marusic</dc:creator>
  <dc:description/>
  <dc:language>en-US</dc:language>
  <cp:lastModifiedBy>HUM</cp:lastModifiedBy>
  <dcterms:modified xsi:type="dcterms:W3CDTF">2017-02-20T09:09:22Z</dcterms:modified>
  <cp:revision>111</cp:revision>
  <dc:subject/>
  <dc:title>No Slide Title</dc:title>
</cp:coreProperties>
</file>