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6.jpeg" ContentType="image/jpe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C3A-D38C-4B16-A1E2-789A9751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829-DBF2-4214-BE74-6E806249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75E-816C-43DF-AF53-D9BE05FD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F781-273D-4D21-99E6-D143DF6D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11E-A5A6-4E20-82CF-B9739818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CA2-60CC-4D23-996A-DEB57604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2BC1-AFC4-4EBF-A8C2-F6CD75B4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55F-7015-469E-84C9-E6A1E15D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771-CFED-49FD-A61B-C56AA85E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557-91A1-4E4A-8BBA-6751F137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646F-B647-42CC-9FAC-4BB8F55C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07C1-E4C6-47F4-B90E-B9660F9E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5EC2-B761-4471-ACEC-7494D00FEF70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ff66"/>
                </a:solidFill>
                <a:latin typeface="Arial"/>
              </a:rPr>
              <a:t>GRAĐA ZNANSTVENOG ČLAN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160" y="4374720"/>
            <a:ext cx="7467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66ff66"/>
                </a:solidFill>
                <a:latin typeface="Arial"/>
              </a:rPr>
              <a:t>Croatian Medical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ff66"/>
                </a:solidFill>
                <a:latin typeface="Arial"/>
              </a:rPr>
              <a:t>Medicinski fakultet Sveučilišta u Spl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537120" y="1413000"/>
            <a:ext cx="15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ff66"/>
                </a:solidFill>
                <a:latin typeface="Arial"/>
              </a:rPr>
              <a:t>Vrste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696320" y="1989000"/>
            <a:ext cx="31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ff66"/>
                </a:solidFill>
                <a:latin typeface="Arial"/>
              </a:rPr>
              <a:t>- indikativan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908000" y="27082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Anemija i transfuzija u teških bolesnik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708560" y="3786120"/>
            <a:ext cx="332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ff66"/>
                </a:solidFill>
                <a:latin typeface="Arial"/>
              </a:rPr>
              <a:t>- informativa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763640" y="465300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D8 T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limfociti potrebni su za stvaranje ektopičnih germinativnih centara u bolesnika s reumatoidnim sinovitiso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2987640" y="476280"/>
            <a:ext cx="272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NASLOV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4" name="Picture 10" descr="j0102262"/>
          <p:cNvPicPr/>
          <p:nvPr/>
        </p:nvPicPr>
        <p:blipFill>
          <a:blip r:embed="rId1"/>
          <a:stretch/>
        </p:blipFill>
        <p:spPr>
          <a:xfrm>
            <a:off x="4716360" y="2157480"/>
            <a:ext cx="719280" cy="334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j0217294"/>
          <p:cNvPicPr/>
          <p:nvPr/>
        </p:nvPicPr>
        <p:blipFill>
          <a:blip r:embed="rId2"/>
          <a:stretch/>
        </p:blipFill>
        <p:spPr>
          <a:xfrm>
            <a:off x="4932360" y="3875040"/>
            <a:ext cx="719280" cy="4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755640" y="4724280"/>
            <a:ext cx="72676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20720" indent="-1983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Puni naziv odjela i ustanove, grad i država </a:t>
            </a:r>
            <a:r>
              <a:rPr b="0" lang="hr-HR" sz="2000" spc="-1" strike="noStrike">
                <a:solidFill>
                  <a:srgbClr val="ffff00"/>
                </a:solidFill>
                <a:latin typeface="Arial"/>
              </a:rPr>
              <a:t>(e.g., </a:t>
            </a:r>
            <a:r>
              <a:rPr b="0" lang="hr-HR" sz="2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00"/>
                </a:solidFill>
                <a:latin typeface="Arial"/>
              </a:rPr>
              <a:t>Department of Neurosurgery, Zagreb University Hospital Center, Zagreb, Croatia 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2050920" y="404640"/>
            <a:ext cx="56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AUTORI I AFILIJACIJ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50920" y="1268280"/>
            <a:ext cx="8569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00"/>
                </a:solidFill>
                <a:latin typeface="Arial"/>
              </a:rPr>
              <a:t>Kriteriji za autorstvo Međunarodnog odbora urednika medicinskih časopis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International Committee of Medical Journal Editors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 - ICMJE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55640" y="2060640"/>
            <a:ext cx="6769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5320" indent="-10296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Puno ime i prezime svih autor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55640" y="306864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16040" indent="-193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Brojem u superskriptu uz prezime označava se kojoj ustanovi/odjelu autor pripada </a:t>
            </a:r>
            <a:r>
              <a:rPr b="0" lang="hr-HR" sz="2000" spc="-1" strike="noStrike">
                <a:solidFill>
                  <a:srgbClr val="ffff00"/>
                </a:solidFill>
                <a:latin typeface="Arial"/>
              </a:rPr>
              <a:t>(e.g., Petar Petrović</a:t>
            </a:r>
            <a:r>
              <a:rPr b="0" lang="hr-HR" sz="2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1" name="Picture 8" descr="PE01561_"/>
          <p:cNvPicPr/>
          <p:nvPr/>
        </p:nvPicPr>
        <p:blipFill>
          <a:blip r:embed="rId1"/>
          <a:stretch/>
        </p:blipFill>
        <p:spPr>
          <a:xfrm>
            <a:off x="7356600" y="5411880"/>
            <a:ext cx="1787400" cy="11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446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KRATKI NASL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640" y="566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Prezime prvog autora (</a:t>
            </a:r>
            <a:r>
              <a:rPr b="0" lang="hr-HR" sz="2000" spc="-1" strike="noStrike">
                <a:solidFill>
                  <a:srgbClr val="ffff00"/>
                </a:solidFill>
                <a:latin typeface="Arial"/>
              </a:rPr>
              <a:t>e.g., Petrović et al:  KRATKI NASLO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765080" y="1268280"/>
            <a:ext cx="448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Skraćena verzija naslov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765080" y="1700280"/>
            <a:ext cx="295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Srž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istraživanj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31800" y="2565360"/>
            <a:ext cx="2913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ff66"/>
                </a:solidFill>
                <a:latin typeface="Arial"/>
              </a:rPr>
              <a:t>PUNI NASLOV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611280" y="2997360"/>
            <a:ext cx="7127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21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Effects of Losartan on Cardiovascular Morbidity and Mortality in Patients With Isolated Systolic Hypertension and Left Ventricular Hypertroph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631440" y="4653000"/>
            <a:ext cx="3285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ff66"/>
                </a:solidFill>
                <a:latin typeface="Arial"/>
              </a:rPr>
              <a:t>KRATKI NASLOV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34680" y="4941720"/>
            <a:ext cx="80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Losartan and Cardiovascular Morbidity and Mortality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6"/>
          <p:cNvSpPr/>
          <p:nvPr/>
        </p:nvSpPr>
        <p:spPr>
          <a:xfrm>
            <a:off x="1116000" y="17002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66ff66"/>
                </a:solidFill>
                <a:latin typeface="Arial"/>
              </a:rPr>
              <a:t>Klasični oblik - esej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117440" y="2757600"/>
            <a:ext cx="23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66ff66"/>
                </a:solidFill>
                <a:latin typeface="Arial"/>
              </a:rPr>
              <a:t>Strukturiran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2" name="Group 31"/>
          <p:cNvGrpSpPr/>
          <p:nvPr/>
        </p:nvGrpSpPr>
        <p:grpSpPr>
          <a:xfrm>
            <a:off x="1763640" y="4149720"/>
            <a:ext cx="3375360" cy="533520"/>
            <a:chOff x="1763640" y="4149720"/>
            <a:chExt cx="3375360" cy="533520"/>
          </a:xfrm>
        </p:grpSpPr>
        <p:sp>
          <p:nvSpPr>
            <p:cNvPr id="133" name="Rectangle 3"/>
            <p:cNvSpPr/>
            <p:nvPr/>
          </p:nvSpPr>
          <p:spPr>
            <a:xfrm>
              <a:off x="1763640" y="4149720"/>
              <a:ext cx="1447560" cy="533520"/>
            </a:xfrm>
            <a:prstGeom prst="rect">
              <a:avLst/>
            </a:prstGeom>
            <a:noFill/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34" name="AutoShape 4"/>
            <p:cNvCxnSpPr/>
            <p:nvPr/>
          </p:nvCxnSpPr>
          <p:spPr>
            <a:xfrm>
              <a:off x="3265200" y="4430880"/>
              <a:ext cx="1874160" cy="10080"/>
            </a:xfrm>
            <a:prstGeom prst="straightConnector1">
              <a:avLst/>
            </a:prstGeom>
            <a:ln w="28440">
              <a:solidFill>
                <a:srgbClr val="66ff66"/>
              </a:solidFill>
              <a:miter/>
              <a:tailEnd len="lg" type="triangle" w="lg"/>
            </a:ln>
          </p:spPr>
        </p:cxnSp>
      </p:grpSp>
      <p:grpSp>
        <p:nvGrpSpPr>
          <p:cNvPr id="135" name="Group 25"/>
          <p:cNvGrpSpPr/>
          <p:nvPr/>
        </p:nvGrpSpPr>
        <p:grpSpPr>
          <a:xfrm>
            <a:off x="1619280" y="3500280"/>
            <a:ext cx="1754280" cy="2349360"/>
            <a:chOff x="1619280" y="3500280"/>
            <a:chExt cx="1754280" cy="2349360"/>
          </a:xfrm>
        </p:grpSpPr>
        <p:sp>
          <p:nvSpPr>
            <p:cNvPr id="136" name="Text Box 9"/>
            <p:cNvSpPr/>
            <p:nvPr/>
          </p:nvSpPr>
          <p:spPr>
            <a:xfrm>
              <a:off x="1619280" y="41130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00"/>
                  </a:solidFill>
                  <a:latin typeface="Arial"/>
                </a:rPr>
                <a:t>Postupci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7" name="Text Box 10"/>
            <p:cNvSpPr/>
            <p:nvPr/>
          </p:nvSpPr>
          <p:spPr>
            <a:xfrm>
              <a:off x="1620720" y="3500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00"/>
                  </a:solidFill>
                  <a:latin typeface="Arial"/>
                </a:rPr>
                <a:t>Cilj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1620720" y="53290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00"/>
                  </a:solidFill>
                  <a:latin typeface="Arial"/>
                </a:rPr>
                <a:t>Zaključak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9" name="Text Box 12"/>
            <p:cNvSpPr/>
            <p:nvPr/>
          </p:nvSpPr>
          <p:spPr>
            <a:xfrm>
              <a:off x="1620720" y="471960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e</a:t>
              </a:r>
              <a:r>
                <a:rPr b="0" lang="hr-HR" sz="2800" spc="-1" strike="noStrike">
                  <a:solidFill>
                    <a:srgbClr val="ffff00"/>
                  </a:solidFill>
                  <a:latin typeface="Arial"/>
                </a:rPr>
                <a:t>zultati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40" name="Group 29"/>
          <p:cNvGrpSpPr/>
          <p:nvPr/>
        </p:nvGrpSpPr>
        <p:grpSpPr>
          <a:xfrm>
            <a:off x="5148360" y="3573360"/>
            <a:ext cx="3168360" cy="2016360"/>
            <a:chOff x="5148360" y="3573360"/>
            <a:chExt cx="3168360" cy="2016360"/>
          </a:xfrm>
        </p:grpSpPr>
        <p:sp>
          <p:nvSpPr>
            <p:cNvPr id="141" name="Rectangle 14"/>
            <p:cNvSpPr/>
            <p:nvPr/>
          </p:nvSpPr>
          <p:spPr>
            <a:xfrm>
              <a:off x="5148360" y="3573360"/>
              <a:ext cx="2952720" cy="2016360"/>
            </a:xfrm>
            <a:prstGeom prst="rect">
              <a:avLst/>
            </a:prstGeom>
            <a:noFill/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142" name="Group 28"/>
            <p:cNvGrpSpPr/>
            <p:nvPr/>
          </p:nvGrpSpPr>
          <p:grpSpPr>
            <a:xfrm>
              <a:off x="5148360" y="3573360"/>
              <a:ext cx="3168360" cy="1923480"/>
              <a:chOff x="5148360" y="3573360"/>
              <a:chExt cx="3168360" cy="1923480"/>
            </a:xfrm>
          </p:grpSpPr>
          <p:sp>
            <p:nvSpPr>
              <p:cNvPr id="143" name="Text Box 15"/>
              <p:cNvSpPr/>
              <p:nvPr/>
            </p:nvSpPr>
            <p:spPr>
              <a:xfrm>
                <a:off x="5153040" y="5037120"/>
                <a:ext cx="316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00"/>
                    </a:solidFill>
                    <a:latin typeface="Arial"/>
                  </a:rPr>
                  <a:t>Glavna mjera ishoda</a:t>
                </a:r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4" name="Text Box 16"/>
              <p:cNvSpPr/>
              <p:nvPr/>
            </p:nvSpPr>
            <p:spPr>
              <a:xfrm>
                <a:off x="5148360" y="4335480"/>
                <a:ext cx="165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00"/>
                    </a:solidFill>
                    <a:latin typeface="Arial"/>
                  </a:rPr>
                  <a:t>Ispitanici</a:t>
                </a:r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5" name="Text Box 17"/>
              <p:cNvSpPr/>
              <p:nvPr/>
            </p:nvSpPr>
            <p:spPr>
              <a:xfrm>
                <a:off x="5153040" y="4691160"/>
                <a:ext cx="215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00"/>
                    </a:solidFill>
                    <a:latin typeface="Arial"/>
                  </a:rPr>
                  <a:t>Intervencija</a:t>
                </a:r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6" name="Text Box 18"/>
              <p:cNvSpPr/>
              <p:nvPr/>
            </p:nvSpPr>
            <p:spPr>
              <a:xfrm>
                <a:off x="5148360" y="3573360"/>
                <a:ext cx="127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00"/>
                    </a:solidFill>
                    <a:latin typeface="Arial"/>
                  </a:rPr>
                  <a:t>Ustroj</a:t>
                </a:r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7" name="Text Box 19"/>
              <p:cNvSpPr/>
              <p:nvPr/>
            </p:nvSpPr>
            <p:spPr>
              <a:xfrm>
                <a:off x="5148360" y="3954600"/>
                <a:ext cx="14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ffff00"/>
                    </a:solidFill>
                    <a:latin typeface="Arial"/>
                  </a:rPr>
                  <a:t>Mjesto</a:t>
                </a:r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Rectangle 32"/>
          <p:cNvSpPr/>
          <p:nvPr/>
        </p:nvSpPr>
        <p:spPr>
          <a:xfrm>
            <a:off x="3059280" y="765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SAŽETA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GRAĐA SAŽET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2637000"/>
            <a:ext cx="63468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ff66"/>
                </a:solidFill>
                <a:latin typeface="Arial"/>
              </a:rPr>
              <a:t>Cilj: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 zašto se provelo istraživanje</a:t>
            </a:r>
            <a:r>
              <a:rPr b="1" lang="hr-H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1" descr="j0102226"/>
          <p:cNvPicPr/>
          <p:nvPr/>
        </p:nvPicPr>
        <p:blipFill>
          <a:blip r:embed="rId1"/>
          <a:stretch/>
        </p:blipFill>
        <p:spPr>
          <a:xfrm>
            <a:off x="7812000" y="189000"/>
            <a:ext cx="1332000" cy="136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1620720" y="148104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Odražava građu cijelog člank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116000" y="34635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4680" indent="-274680"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ff66"/>
                </a:solidFill>
                <a:latin typeface="Arial"/>
              </a:rPr>
              <a:t>Postupak: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 tko su bili ispitanici (materijali), što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         se radilo, na koji način i čime,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         gdje i kad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120680" y="491652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4680" indent="-274680" algn="ctr"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ff66"/>
                </a:solidFill>
                <a:latin typeface="Arial"/>
              </a:rPr>
              <a:t>Rezultati: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 sažetak glavnih rezultat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1125000" y="5635800"/>
            <a:ext cx="64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4680" indent="-274680" algn="ctr"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ff66"/>
                </a:solidFill>
                <a:latin typeface="Arial"/>
              </a:rPr>
              <a:t>Zaključak: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 glavni zaključci na temelju nalaz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403280" y="4755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STRUKTURIRANI SAŽETA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971640" y="1700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ff00"/>
                </a:solidFill>
                <a:latin typeface="Arial"/>
              </a:rPr>
              <a:t>Piscu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pomaže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972000" y="2565360"/>
            <a:ext cx="683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da se sjeti što sve mora u njemu napisat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971640" y="342900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olakšava organizaciju prikaza istraživanja (informacij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900000" y="52992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služi umjesto članka, ako članak nije dostupan u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cijelost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403280" y="42372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STRUKTURIRANI SAŽETA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59800" y="1268280"/>
            <a:ext cx="36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ff66"/>
                </a:solidFill>
                <a:latin typeface="Arial"/>
              </a:rPr>
              <a:t>Čitatelju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pomaže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898560" y="1916280"/>
            <a:ext cx="56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da odluči hoće li čitati cijeli članak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900000" y="263196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usmjerava ga na srž istraživanj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61240" y="4700520"/>
            <a:ext cx="30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pronaći člana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828720" y="3187800"/>
            <a:ext cx="8423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pretraživati i čitati članak, jer dijeli informaciju na više jednostavnijih cjelin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904320" y="4098960"/>
            <a:ext cx="25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slijediti “uzorak”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KLJUČNE RIJEČ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4840" y="1816200"/>
            <a:ext cx="62755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Thesaurus (MeSH - Index Medic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620000" y="371304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Svrha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116000" y="292104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5-8 ključnih riječ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116000" y="3860640"/>
            <a:ext cx="165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1619280" y="443376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- ciljano pretraživanj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4" name="Picture 11" descr="PE01692_"/>
          <p:cNvPicPr/>
          <p:nvPr/>
        </p:nvPicPr>
        <p:blipFill>
          <a:blip r:embed="rId1"/>
          <a:stretch/>
        </p:blipFill>
        <p:spPr>
          <a:xfrm>
            <a:off x="7800840" y="5705640"/>
            <a:ext cx="1235160" cy="103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UV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2"/>
          <p:cNvSpPr/>
          <p:nvPr/>
        </p:nvSpPr>
        <p:spPr>
          <a:xfrm flipH="1" flipV="1">
            <a:off x="898920" y="1627920"/>
            <a:ext cx="7559640" cy="47530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826920" y="1484280"/>
            <a:ext cx="77756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Arial"/>
              </a:rPr>
              <a:t>Počnite od općeg, šireg konteksta da biste 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Arial"/>
              </a:rPr>
              <a:t>upoznali čitatelja s onim što se već 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Arial"/>
              </a:rPr>
              <a:t>zna, zatim s onim što se još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Arial"/>
              </a:rPr>
              <a:t>ne zna te s problemima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Arial"/>
              </a:rPr>
              <a:t>i onim što ste 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Arial"/>
              </a:rPr>
              <a:t>vi odlučili 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Arial"/>
              </a:rPr>
              <a:t>istražiti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130560" y="476280"/>
            <a:ext cx="2736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UVOD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187280" y="2492280"/>
            <a:ext cx="69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Što se istraživalo prije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?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Sustavni pregled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188360" y="1628640"/>
            <a:ext cx="65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Zašto je ovo istraživanje bilo potrebno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187280" y="3357720"/>
            <a:ext cx="77774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Pazite da čitatelji razumiju u čemu je važnost ovog istraživanja, ali nemojte pretjerati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187280" y="4508640"/>
            <a:ext cx="792036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Ne morate spomenuti sve što ste pročitali, samo relevantne informacij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187280" y="5589720"/>
            <a:ext cx="47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Kratak, sažet i informativ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4" name="Picture 10" descr="ED00013_"/>
          <p:cNvPicPr/>
          <p:nvPr/>
        </p:nvPicPr>
        <p:blipFill>
          <a:blip r:embed="rId1"/>
          <a:stretch/>
        </p:blipFill>
        <p:spPr>
          <a:xfrm>
            <a:off x="7596360" y="5589720"/>
            <a:ext cx="892080" cy="94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BD08392_"/>
          <p:cNvPicPr/>
          <p:nvPr/>
        </p:nvPicPr>
        <p:blipFill>
          <a:blip r:embed="rId1"/>
          <a:stretch/>
        </p:blipFill>
        <p:spPr>
          <a:xfrm>
            <a:off x="1571760" y="5330880"/>
            <a:ext cx="1185840" cy="1365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j0274790"/>
          <p:cNvPicPr/>
          <p:nvPr/>
        </p:nvPicPr>
        <p:blipFill>
          <a:blip r:embed="rId2"/>
          <a:stretch/>
        </p:blipFill>
        <p:spPr>
          <a:xfrm>
            <a:off x="3652920" y="2773440"/>
            <a:ext cx="1103400" cy="180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j0203062"/>
          <p:cNvPicPr/>
          <p:nvPr/>
        </p:nvPicPr>
        <p:blipFill>
          <a:blip r:embed="rId3"/>
          <a:stretch/>
        </p:blipFill>
        <p:spPr>
          <a:xfrm>
            <a:off x="6615000" y="512640"/>
            <a:ext cx="1665360" cy="1197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2"/>
          <p:cNvSpPr/>
          <p:nvPr/>
        </p:nvSpPr>
        <p:spPr>
          <a:xfrm>
            <a:off x="503280" y="586116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idej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3262320" y="885960"/>
            <a:ext cx="34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znanstveni člana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 flipV="1">
            <a:off x="2606760" y="4541760"/>
            <a:ext cx="1157040" cy="836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3244680" y="505944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istraživanj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AutoShape 18"/>
          <p:cNvSpPr/>
          <p:nvPr/>
        </p:nvSpPr>
        <p:spPr>
          <a:xfrm>
            <a:off x="1265400" y="2208240"/>
            <a:ext cx="2484360" cy="824040"/>
          </a:xfrm>
          <a:prstGeom prst="wedgeEllipseCallout">
            <a:avLst>
              <a:gd name="adj1" fmla="val 49171"/>
              <a:gd name="adj2" fmla="val 70425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Arial"/>
              </a:rPr>
              <a:t>heureka!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 flipV="1">
            <a:off x="5218200" y="2425680"/>
            <a:ext cx="1127160" cy="898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6172200" y="2743200"/>
            <a:ext cx="14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pisanj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3233880" y="880920"/>
            <a:ext cx="34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znanstveni člana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15840" y="274320"/>
            <a:ext cx="55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ff66"/>
                </a:solidFill>
                <a:latin typeface="Arial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1"/>
          <p:cNvGrpSpPr/>
          <p:nvPr/>
        </p:nvGrpSpPr>
        <p:grpSpPr>
          <a:xfrm>
            <a:off x="1816200" y="1847520"/>
            <a:ext cx="283680" cy="292320"/>
            <a:chOff x="1816200" y="1847520"/>
            <a:chExt cx="283680" cy="292320"/>
          </a:xfrm>
        </p:grpSpPr>
        <p:sp>
          <p:nvSpPr>
            <p:cNvPr id="187" name="Line 12"/>
            <p:cNvSpPr/>
            <p:nvPr/>
          </p:nvSpPr>
          <p:spPr>
            <a:xfrm>
              <a:off x="1816200" y="2014920"/>
              <a:ext cx="112680" cy="1249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88" name="Line 13"/>
            <p:cNvSpPr/>
            <p:nvPr/>
          </p:nvSpPr>
          <p:spPr>
            <a:xfrm flipV="1">
              <a:off x="1911600" y="1847520"/>
              <a:ext cx="188280" cy="29196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89" name="Text Box 14"/>
          <p:cNvSpPr/>
          <p:nvPr/>
        </p:nvSpPr>
        <p:spPr>
          <a:xfrm>
            <a:off x="2452680" y="1717560"/>
            <a:ext cx="35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kontekst proble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90" name="Group 15"/>
          <p:cNvGrpSpPr/>
          <p:nvPr/>
        </p:nvGrpSpPr>
        <p:grpSpPr>
          <a:xfrm>
            <a:off x="1816200" y="2754000"/>
            <a:ext cx="283680" cy="292320"/>
            <a:chOff x="1816200" y="2754000"/>
            <a:chExt cx="283680" cy="292320"/>
          </a:xfrm>
        </p:grpSpPr>
        <p:sp>
          <p:nvSpPr>
            <p:cNvPr id="191" name="Line 16"/>
            <p:cNvSpPr/>
            <p:nvPr/>
          </p:nvSpPr>
          <p:spPr>
            <a:xfrm>
              <a:off x="1816200" y="2921400"/>
              <a:ext cx="112680" cy="1249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92" name="Line 17"/>
            <p:cNvSpPr/>
            <p:nvPr/>
          </p:nvSpPr>
          <p:spPr>
            <a:xfrm flipV="1">
              <a:off x="1911600" y="2754000"/>
              <a:ext cx="188280" cy="29196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93" name="Group 18"/>
          <p:cNvGrpSpPr/>
          <p:nvPr/>
        </p:nvGrpSpPr>
        <p:grpSpPr>
          <a:xfrm>
            <a:off x="1816200" y="4547880"/>
            <a:ext cx="283680" cy="292320"/>
            <a:chOff x="1816200" y="4547880"/>
            <a:chExt cx="283680" cy="292320"/>
          </a:xfrm>
        </p:grpSpPr>
        <p:sp>
          <p:nvSpPr>
            <p:cNvPr id="194" name="Line 19"/>
            <p:cNvSpPr/>
            <p:nvPr/>
          </p:nvSpPr>
          <p:spPr>
            <a:xfrm>
              <a:off x="1816200" y="4715280"/>
              <a:ext cx="112680" cy="1249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95" name="Line 20"/>
            <p:cNvSpPr/>
            <p:nvPr/>
          </p:nvSpPr>
          <p:spPr>
            <a:xfrm flipV="1">
              <a:off x="1911600" y="4547880"/>
              <a:ext cx="188280" cy="29196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96" name="Group 21"/>
          <p:cNvGrpSpPr/>
          <p:nvPr/>
        </p:nvGrpSpPr>
        <p:grpSpPr>
          <a:xfrm>
            <a:off x="1828800" y="5400360"/>
            <a:ext cx="283680" cy="292320"/>
            <a:chOff x="1828800" y="5400360"/>
            <a:chExt cx="283680" cy="292320"/>
          </a:xfrm>
        </p:grpSpPr>
        <p:sp>
          <p:nvSpPr>
            <p:cNvPr id="197" name="Line 22"/>
            <p:cNvSpPr/>
            <p:nvPr/>
          </p:nvSpPr>
          <p:spPr>
            <a:xfrm>
              <a:off x="1828800" y="5567760"/>
              <a:ext cx="112680" cy="1249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98" name="Line 23"/>
            <p:cNvSpPr/>
            <p:nvPr/>
          </p:nvSpPr>
          <p:spPr>
            <a:xfrm flipV="1">
              <a:off x="1924200" y="5400360"/>
              <a:ext cx="188280" cy="29196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99" name="Text Box 25"/>
          <p:cNvSpPr/>
          <p:nvPr/>
        </p:nvSpPr>
        <p:spPr>
          <a:xfrm>
            <a:off x="2441520" y="26082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što se već zn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Text Box 26"/>
          <p:cNvSpPr/>
          <p:nvPr/>
        </p:nvSpPr>
        <p:spPr>
          <a:xfrm>
            <a:off x="2441520" y="4478400"/>
            <a:ext cx="31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što se još ne zn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2441520" y="5342040"/>
            <a:ext cx="48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što su autori odlučili istražit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2" name="Group 28"/>
          <p:cNvGrpSpPr/>
          <p:nvPr/>
        </p:nvGrpSpPr>
        <p:grpSpPr>
          <a:xfrm>
            <a:off x="1816200" y="3681360"/>
            <a:ext cx="283680" cy="292320"/>
            <a:chOff x="1816200" y="3681360"/>
            <a:chExt cx="283680" cy="292320"/>
          </a:xfrm>
        </p:grpSpPr>
        <p:sp>
          <p:nvSpPr>
            <p:cNvPr id="203" name="Line 29"/>
            <p:cNvSpPr/>
            <p:nvPr/>
          </p:nvSpPr>
          <p:spPr>
            <a:xfrm>
              <a:off x="1816200" y="3848400"/>
              <a:ext cx="112680" cy="1249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04" name="Line 30"/>
            <p:cNvSpPr/>
            <p:nvPr/>
          </p:nvSpPr>
          <p:spPr>
            <a:xfrm flipV="1">
              <a:off x="1911600" y="3681360"/>
              <a:ext cx="188280" cy="2923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05" name="Text Box 31"/>
          <p:cNvSpPr/>
          <p:nvPr/>
        </p:nvSpPr>
        <p:spPr>
          <a:xfrm>
            <a:off x="2441520" y="357984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refere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1908000" y="47628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TVORIVA I POSTUPCI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116000" y="15573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Daju informacije koje znanstvenicima /čitateljima omogućuju 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035800" y="2924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ponavljanje poku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2052720" y="3716280"/>
            <a:ext cx="47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procjenu vrijednosti poku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130760" y="4797360"/>
            <a:ext cx="71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Za informirane čitatelje, ovo je najvažniji dio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042920" y="393840"/>
            <a:ext cx="66978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TVORIVA I POSTUPCI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384200" y="4189320"/>
            <a:ext cx="189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059280" y="162864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ffff00"/>
                </a:solidFill>
                <a:latin typeface="Arial"/>
              </a:rPr>
              <a:t>Recep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4" name="Picture 11" descr="cook"/>
          <p:cNvPicPr/>
          <p:nvPr/>
        </p:nvPicPr>
        <p:blipFill>
          <a:blip r:embed="rId1"/>
          <a:stretch/>
        </p:blipFill>
        <p:spPr>
          <a:xfrm>
            <a:off x="5940360" y="3933720"/>
            <a:ext cx="1478160" cy="1258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" descr="fd01639_"/>
          <p:cNvPicPr/>
          <p:nvPr/>
        </p:nvPicPr>
        <p:blipFill>
          <a:blip r:embed="rId2"/>
          <a:stretch/>
        </p:blipFill>
        <p:spPr>
          <a:xfrm>
            <a:off x="1692360" y="3933720"/>
            <a:ext cx="1800000" cy="1244880"/>
          </a:xfrm>
          <a:prstGeom prst="rect">
            <a:avLst/>
          </a:prstGeom>
          <a:ln w="0">
            <a:noFill/>
          </a:ln>
        </p:spPr>
      </p:pic>
      <p:sp>
        <p:nvSpPr>
          <p:cNvPr id="216" name="Line 18"/>
          <p:cNvSpPr/>
          <p:nvPr/>
        </p:nvSpPr>
        <p:spPr>
          <a:xfrm flipH="1">
            <a:off x="2700360" y="2709720"/>
            <a:ext cx="574560" cy="433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5508720" y="2709720"/>
            <a:ext cx="503280" cy="433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971640" y="530208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Što/tko, koliko, kada, gdje..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5651640" y="53020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Kako i čime..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1042920" y="321300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Arial"/>
              </a:rPr>
              <a:t>ispitanici/tvoriv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5219640" y="3213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Arial"/>
              </a:rPr>
              <a:t>postupc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885960" y="2316240"/>
            <a:ext cx="74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Opisati kako su izabrani ispitanici te kriterije          uključivanja/isključivanj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ff66"/>
                </a:solidFill>
                <a:latin typeface="Arial"/>
              </a:rPr>
              <a:t>TVORIVA I POSTUP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900000" y="471024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Ne opisivati standardizirane postupke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– refere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1403280" y="53481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instrumenti/tvoriva – proizvođač, grad, držav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900000" y="161460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Opisati ispitanike/tvoriv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1244520" y="327492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pristanak upućenog bolesnik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898560" y="3944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Opis oblikovanja skupina (ispitanici vs kontrol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TVORIVA I POSTUP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160280" y="3578400"/>
            <a:ext cx="40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Opis statističke analiz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162800" y="553716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Odobrenje etičkog odbor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1547640" y="4216320"/>
            <a:ext cx="468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testov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statistički program (proizvođač)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3" name="Picture 9" descr="PE01632_"/>
          <p:cNvPicPr/>
          <p:nvPr/>
        </p:nvPicPr>
        <p:blipFill>
          <a:blip r:embed="rId1"/>
          <a:stretch/>
        </p:blipFill>
        <p:spPr>
          <a:xfrm>
            <a:off x="7740720" y="4253040"/>
            <a:ext cx="1020600" cy="9763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1"/>
          <p:cNvSpPr/>
          <p:nvPr/>
        </p:nvSpPr>
        <p:spPr>
          <a:xfrm>
            <a:off x="1160640" y="2335320"/>
            <a:ext cx="73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Detaljniji opis metoda (npr., upitnik) možete ponuditi u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eb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verziji člank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1160640" y="14940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Opisati način prikupljanja podatak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395280" y="2078640"/>
            <a:ext cx="83059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Pediat Res 1972;6:2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Krv za analizu uzeta je od 48 osoba koje smo upoznali s pokusom i koje su pristale na istraživanje (informed and consenting subjects); dob ispitanika bila je od 6 mjeseci do 22 godin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619280" y="404640"/>
            <a:ext cx="66978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TVORIVA I POSTUPCI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"/>
          <p:cNvSpPr/>
          <p:nvPr/>
        </p:nvSpPr>
        <p:spPr>
          <a:xfrm>
            <a:off x="1332000" y="0"/>
            <a:ext cx="6697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TVORIVA I POSTUPCI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39" name="Group 5"/>
          <p:cNvGrpSpPr/>
          <p:nvPr/>
        </p:nvGrpSpPr>
        <p:grpSpPr>
          <a:xfrm>
            <a:off x="749160" y="1822320"/>
            <a:ext cx="284400" cy="292320"/>
            <a:chOff x="749160" y="1822320"/>
            <a:chExt cx="284400" cy="292320"/>
          </a:xfrm>
        </p:grpSpPr>
        <p:sp>
          <p:nvSpPr>
            <p:cNvPr id="240" name="Line 6"/>
            <p:cNvSpPr/>
            <p:nvPr/>
          </p:nvSpPr>
          <p:spPr>
            <a:xfrm>
              <a:off x="749160" y="1989360"/>
              <a:ext cx="113040" cy="1249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 flipV="1">
              <a:off x="844920" y="1822320"/>
              <a:ext cx="188640" cy="2923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42" name="Group 8"/>
          <p:cNvGrpSpPr/>
          <p:nvPr/>
        </p:nvGrpSpPr>
        <p:grpSpPr>
          <a:xfrm>
            <a:off x="750960" y="2492280"/>
            <a:ext cx="283680" cy="292320"/>
            <a:chOff x="750960" y="2492280"/>
            <a:chExt cx="283680" cy="292320"/>
          </a:xfrm>
        </p:grpSpPr>
        <p:sp>
          <p:nvSpPr>
            <p:cNvPr id="243" name="Line 9"/>
            <p:cNvSpPr/>
            <p:nvPr/>
          </p:nvSpPr>
          <p:spPr>
            <a:xfrm>
              <a:off x="750960" y="2659320"/>
              <a:ext cx="112680" cy="1249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4" name="Line 10"/>
            <p:cNvSpPr/>
            <p:nvPr/>
          </p:nvSpPr>
          <p:spPr>
            <a:xfrm flipV="1">
              <a:off x="846360" y="2492280"/>
              <a:ext cx="188280" cy="2923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45" name="Group 11"/>
          <p:cNvGrpSpPr/>
          <p:nvPr/>
        </p:nvGrpSpPr>
        <p:grpSpPr>
          <a:xfrm>
            <a:off x="736560" y="3740040"/>
            <a:ext cx="283680" cy="292320"/>
            <a:chOff x="736560" y="3740040"/>
            <a:chExt cx="283680" cy="292320"/>
          </a:xfrm>
        </p:grpSpPr>
        <p:sp>
          <p:nvSpPr>
            <p:cNvPr id="246" name="Line 12"/>
            <p:cNvSpPr/>
            <p:nvPr/>
          </p:nvSpPr>
          <p:spPr>
            <a:xfrm>
              <a:off x="736560" y="3907080"/>
              <a:ext cx="112680" cy="1249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 flipV="1">
              <a:off x="831960" y="3740040"/>
              <a:ext cx="188280" cy="2923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48" name="Group 14"/>
          <p:cNvGrpSpPr/>
          <p:nvPr/>
        </p:nvGrpSpPr>
        <p:grpSpPr>
          <a:xfrm>
            <a:off x="749160" y="4313160"/>
            <a:ext cx="284400" cy="292320"/>
            <a:chOff x="749160" y="4313160"/>
            <a:chExt cx="284400" cy="292320"/>
          </a:xfrm>
        </p:grpSpPr>
        <p:sp>
          <p:nvSpPr>
            <p:cNvPr id="249" name="Line 15"/>
            <p:cNvSpPr/>
            <p:nvPr/>
          </p:nvSpPr>
          <p:spPr>
            <a:xfrm>
              <a:off x="749160" y="4480200"/>
              <a:ext cx="113040" cy="1249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0" name="Line 16"/>
            <p:cNvSpPr/>
            <p:nvPr/>
          </p:nvSpPr>
          <p:spPr>
            <a:xfrm flipV="1">
              <a:off x="844920" y="4313160"/>
              <a:ext cx="188640" cy="2923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51" name="Group 17"/>
          <p:cNvGrpSpPr/>
          <p:nvPr/>
        </p:nvGrpSpPr>
        <p:grpSpPr>
          <a:xfrm>
            <a:off x="750960" y="3127320"/>
            <a:ext cx="283680" cy="292320"/>
            <a:chOff x="750960" y="3127320"/>
            <a:chExt cx="283680" cy="292320"/>
          </a:xfrm>
        </p:grpSpPr>
        <p:sp>
          <p:nvSpPr>
            <p:cNvPr id="252" name="Line 18"/>
            <p:cNvSpPr/>
            <p:nvPr/>
          </p:nvSpPr>
          <p:spPr>
            <a:xfrm>
              <a:off x="750960" y="3294360"/>
              <a:ext cx="112680" cy="1249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3" name="Line 19"/>
            <p:cNvSpPr/>
            <p:nvPr/>
          </p:nvSpPr>
          <p:spPr>
            <a:xfrm flipV="1">
              <a:off x="846360" y="3127320"/>
              <a:ext cx="188280" cy="2923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54" name="Group 20"/>
          <p:cNvGrpSpPr/>
          <p:nvPr/>
        </p:nvGrpSpPr>
        <p:grpSpPr>
          <a:xfrm>
            <a:off x="760320" y="4860720"/>
            <a:ext cx="284400" cy="292320"/>
            <a:chOff x="760320" y="4860720"/>
            <a:chExt cx="284400" cy="292320"/>
          </a:xfrm>
        </p:grpSpPr>
        <p:sp>
          <p:nvSpPr>
            <p:cNvPr id="255" name="Line 21"/>
            <p:cNvSpPr/>
            <p:nvPr/>
          </p:nvSpPr>
          <p:spPr>
            <a:xfrm>
              <a:off x="760320" y="5028120"/>
              <a:ext cx="113040" cy="1249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6" name="Line 22"/>
            <p:cNvSpPr/>
            <p:nvPr/>
          </p:nvSpPr>
          <p:spPr>
            <a:xfrm flipV="1">
              <a:off x="856080" y="4860720"/>
              <a:ext cx="188640" cy="29196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57" name="Text Box 23"/>
          <p:cNvSpPr/>
          <p:nvPr/>
        </p:nvSpPr>
        <p:spPr>
          <a:xfrm>
            <a:off x="1389240" y="1708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opis ispitanika (koliko, tko, gdje, dob, spol....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Text Box 24"/>
          <p:cNvSpPr/>
          <p:nvPr/>
        </p:nvSpPr>
        <p:spPr>
          <a:xfrm>
            <a:off x="1389240" y="2368440"/>
            <a:ext cx="55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kriteriji uključivanja/isključivanj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Text Box 25"/>
          <p:cNvSpPr/>
          <p:nvPr/>
        </p:nvSpPr>
        <p:spPr>
          <a:xfrm>
            <a:off x="1389240" y="30081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pristanak upućenog ispitanik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1389240" y="3637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opis oblikovanja skupina (ispitanici vs kontrol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Text Box 28"/>
          <p:cNvSpPr/>
          <p:nvPr/>
        </p:nvSpPr>
        <p:spPr>
          <a:xfrm>
            <a:off x="1389240" y="4214880"/>
            <a:ext cx="58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opis načina prikupljanja podatak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1389240" y="4748040"/>
            <a:ext cx="41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opis statističke analiz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Text Box 30"/>
          <p:cNvSpPr/>
          <p:nvPr/>
        </p:nvSpPr>
        <p:spPr>
          <a:xfrm>
            <a:off x="1405080" y="5337000"/>
            <a:ext cx="54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opis metode / vrsta istraživanj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64" name="Group 31"/>
          <p:cNvGrpSpPr/>
          <p:nvPr/>
        </p:nvGrpSpPr>
        <p:grpSpPr>
          <a:xfrm>
            <a:off x="762120" y="5425920"/>
            <a:ext cx="283680" cy="292320"/>
            <a:chOff x="762120" y="5425920"/>
            <a:chExt cx="283680" cy="292320"/>
          </a:xfrm>
        </p:grpSpPr>
        <p:sp>
          <p:nvSpPr>
            <p:cNvPr id="265" name="Line 32"/>
            <p:cNvSpPr/>
            <p:nvPr/>
          </p:nvSpPr>
          <p:spPr>
            <a:xfrm>
              <a:off x="762120" y="5592960"/>
              <a:ext cx="112680" cy="1249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6" name="Line 33"/>
            <p:cNvSpPr/>
            <p:nvPr/>
          </p:nvSpPr>
          <p:spPr>
            <a:xfrm flipV="1">
              <a:off x="857520" y="5425920"/>
              <a:ext cx="188280" cy="2923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7" name="Group 34"/>
          <p:cNvGrpSpPr/>
          <p:nvPr/>
        </p:nvGrpSpPr>
        <p:grpSpPr>
          <a:xfrm>
            <a:off x="760320" y="6040080"/>
            <a:ext cx="284400" cy="292320"/>
            <a:chOff x="760320" y="6040080"/>
            <a:chExt cx="284400" cy="292320"/>
          </a:xfrm>
        </p:grpSpPr>
        <p:sp>
          <p:nvSpPr>
            <p:cNvPr id="268" name="Line 35"/>
            <p:cNvSpPr/>
            <p:nvPr/>
          </p:nvSpPr>
          <p:spPr>
            <a:xfrm>
              <a:off x="760320" y="6207480"/>
              <a:ext cx="113040" cy="1249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 flipV="1">
              <a:off x="856080" y="6040080"/>
              <a:ext cx="188640" cy="29196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70" name="Text Box 37"/>
          <p:cNvSpPr/>
          <p:nvPr/>
        </p:nvSpPr>
        <p:spPr>
          <a:xfrm>
            <a:off x="1398600" y="5902200"/>
            <a:ext cx="45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odobrenje etičkog odbor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71" name="Group 38"/>
          <p:cNvGrpSpPr/>
          <p:nvPr/>
        </p:nvGrpSpPr>
        <p:grpSpPr>
          <a:xfrm>
            <a:off x="736560" y="1164960"/>
            <a:ext cx="283680" cy="292320"/>
            <a:chOff x="736560" y="1164960"/>
            <a:chExt cx="283680" cy="292320"/>
          </a:xfrm>
        </p:grpSpPr>
        <p:sp>
          <p:nvSpPr>
            <p:cNvPr id="272" name="Line 39"/>
            <p:cNvSpPr/>
            <p:nvPr/>
          </p:nvSpPr>
          <p:spPr>
            <a:xfrm>
              <a:off x="736560" y="1332360"/>
              <a:ext cx="112680" cy="1249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3" name="Line 40"/>
            <p:cNvSpPr/>
            <p:nvPr/>
          </p:nvSpPr>
          <p:spPr>
            <a:xfrm flipV="1">
              <a:off x="831960" y="1164960"/>
              <a:ext cx="188280" cy="29196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74" name="Text Box 41"/>
          <p:cNvSpPr/>
          <p:nvPr/>
        </p:nvSpPr>
        <p:spPr>
          <a:xfrm>
            <a:off x="1389240" y="1044720"/>
            <a:ext cx="22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gdje i kad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5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0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3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40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REZ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58920" y="3184560"/>
            <a:ext cx="478944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Samo relevantni rezult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1259640" y="3917880"/>
            <a:ext cx="40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Osnovni opisni podatc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1259640" y="4660920"/>
            <a:ext cx="72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Rezultati moraju jasno slijediti iz postupak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79" name="Picture 8" descr="PE02671_"/>
          <p:cNvPicPr/>
          <p:nvPr/>
        </p:nvPicPr>
        <p:blipFill>
          <a:blip r:embed="rId1"/>
          <a:stretch/>
        </p:blipFill>
        <p:spPr>
          <a:xfrm>
            <a:off x="7308720" y="5257800"/>
            <a:ext cx="1625760" cy="15987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0"/>
          <p:cNvSpPr/>
          <p:nvPr/>
        </p:nvSpPr>
        <p:spPr>
          <a:xfrm>
            <a:off x="1258920" y="246204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Opis rezultata (ne tumačiti!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1258920" y="168588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Prikaz rezult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5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ff66"/>
                </a:solidFill>
                <a:latin typeface="Arial"/>
              </a:rPr>
              <a:t>REZULT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21"/>
          <p:cNvGraphicFramePr/>
          <p:nvPr/>
        </p:nvGraphicFramePr>
        <p:xfrm>
          <a:off x="539640" y="4005360"/>
          <a:ext cx="1944720" cy="19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05360"/>
                    <a:ext cx="194472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35"/>
          <p:cNvGraphicFramePr/>
          <p:nvPr/>
        </p:nvGraphicFramePr>
        <p:xfrm>
          <a:off x="3132000" y="4508640"/>
          <a:ext cx="2519640" cy="15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508640"/>
                    <a:ext cx="251964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5"/>
          <p:cNvSpPr/>
          <p:nvPr/>
        </p:nvSpPr>
        <p:spPr>
          <a:xfrm>
            <a:off x="971640" y="327024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Tek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603600" y="3789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Tabl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754680" y="32702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Slik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3059280" y="162864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Prikaz rezultat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5875200" y="2349360"/>
            <a:ext cx="1079640" cy="93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Line 13"/>
          <p:cNvSpPr/>
          <p:nvPr/>
        </p:nvSpPr>
        <p:spPr>
          <a:xfrm>
            <a:off x="4316400" y="2492280"/>
            <a:ext cx="0" cy="1297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Line 14"/>
          <p:cNvSpPr/>
          <p:nvPr/>
        </p:nvSpPr>
        <p:spPr>
          <a:xfrm flipH="1">
            <a:off x="1827360" y="2349360"/>
            <a:ext cx="1295280" cy="863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4" name="Object 37"/>
          <p:cNvGraphicFramePr/>
          <p:nvPr/>
        </p:nvGraphicFramePr>
        <p:xfrm>
          <a:off x="6372360" y="4005360"/>
          <a:ext cx="2554200" cy="18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72360" y="4005360"/>
                    <a:ext cx="255420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835280" y="1492200"/>
            <a:ext cx="475272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mora biti informati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1829520" y="2924280"/>
            <a:ext cx="71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ne prepisivati brojeve iz tablica – opisati i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835280" y="3573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7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paziti na redosljed tablica i slika (pozivi)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1835280" y="2205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logičan slijed opisa podatak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2843280" y="333360"/>
            <a:ext cx="3168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REZ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1835280" y="4221000"/>
            <a:ext cx="669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izbjegavati raspravu o posljedicama ili jačim i slabijim stranama vašeg istraživanj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1835280" y="5651640"/>
            <a:ext cx="63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tekst se mora oslanjati na podatke provedenog istraživanj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600120" y="1413000"/>
            <a:ext cx="13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ff66"/>
                </a:solidFill>
                <a:latin typeface="Arial"/>
              </a:rPr>
              <a:t>Teks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500"/>
                            </p:stCondLst>
                            <p:childTnLst>
                              <p:par>
                                <p:cTn id="7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000"/>
                            </p:stCondLst>
                            <p:childTnLst>
                              <p:par>
                                <p:cTn id="7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50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143000" y="9144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ZNANSTVENI ČLANA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500120" y="5219640"/>
            <a:ext cx="588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068480" y="5292720"/>
            <a:ext cx="616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258920" y="2421000"/>
            <a:ext cx="67690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Posebna vrsta publikacije kojom se prenosi znanstvena informacij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258920" y="4221000"/>
            <a:ext cx="64134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Obavijest o novom znanstvenom</a:t>
            </a:r>
            <a:br>
              <a:rPr sz="3200"/>
            </a:b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otkrić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Picture 9" descr="j0195356"/>
          <p:cNvPicPr/>
          <p:nvPr/>
        </p:nvPicPr>
        <p:blipFill>
          <a:blip r:embed="rId1"/>
          <a:stretch/>
        </p:blipFill>
        <p:spPr>
          <a:xfrm>
            <a:off x="8008920" y="0"/>
            <a:ext cx="1135080" cy="11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4"/>
          <p:cNvSpPr/>
          <p:nvPr/>
        </p:nvSpPr>
        <p:spPr>
          <a:xfrm>
            <a:off x="2853720" y="355680"/>
            <a:ext cx="294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REZULTATI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1116000" y="5734080"/>
            <a:ext cx="662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Text Box 25"/>
          <p:cNvSpPr/>
          <p:nvPr/>
        </p:nvSpPr>
        <p:spPr>
          <a:xfrm>
            <a:off x="1141560" y="561960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Prilozi moraju biti popraćeni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legendama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2340000" y="168588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donose dokaz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2268360" y="2262240"/>
            <a:ext cx="69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kategorijske  varijable, frekvencije, etc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Rectangle 26"/>
          <p:cNvSpPr/>
          <p:nvPr/>
        </p:nvSpPr>
        <p:spPr>
          <a:xfrm>
            <a:off x="974160" y="168588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ff66"/>
                </a:solidFill>
                <a:latin typeface="Arial"/>
              </a:rPr>
              <a:t>Tabl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2239920" y="3487680"/>
            <a:ext cx="54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ilustriraju najvažnije nalaz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2252520" y="4525920"/>
            <a:ext cx="648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histološki preparati, fotografije, RTG, grafikoni, etc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Rectangle 27"/>
          <p:cNvSpPr/>
          <p:nvPr/>
        </p:nvSpPr>
        <p:spPr>
          <a:xfrm>
            <a:off x="1057320" y="33940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ff66"/>
                </a:solidFill>
                <a:latin typeface="Arial"/>
              </a:rPr>
              <a:t>Slik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Text Box 33"/>
          <p:cNvSpPr/>
          <p:nvPr/>
        </p:nvSpPr>
        <p:spPr>
          <a:xfrm>
            <a:off x="2208240" y="3970440"/>
            <a:ext cx="66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prikaz vremenskog obrasca promjen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5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1474920" y="537300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velike brojeve je teško “čitati” (&gt;1 000 000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2484360" y="333360"/>
            <a:ext cx="41752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REZULTATI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2783520" y="1197000"/>
            <a:ext cx="42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ff66"/>
                </a:solidFill>
                <a:latin typeface="Arial"/>
              </a:rPr>
              <a:t>Prikaz brojčanih podatak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971640" y="184464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Brojke prikazujte tako da ih čitatelj može bolje razumjet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1448640" y="3213000"/>
            <a:ext cx="48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ne pišite više od 3 decima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1440000" y="3933720"/>
            <a:ext cx="74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zaokružujte brojeve (osim u slučaju gdje je apsolutno neophodno navesti točan i potpun broj)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20" name="Picture 10" descr="DD00802_"/>
          <p:cNvPicPr/>
          <p:nvPr/>
        </p:nvPicPr>
        <p:blipFill>
          <a:blip r:embed="rId1"/>
          <a:stretch/>
        </p:blipFill>
        <p:spPr>
          <a:xfrm>
            <a:off x="7738920" y="260280"/>
            <a:ext cx="113688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500"/>
                            </p:stCondLst>
                            <p:childTnLst>
                              <p:par>
                                <p:cTn id="8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3367080" y="324900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bitnu statistiku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2484360" y="333360"/>
            <a:ext cx="41752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REZULTATI </a:t>
            </a:r>
            <a:r>
              <a:rPr b="0" lang="hr-HR" sz="4400" spc="-1" strike="noStrike">
                <a:solidFill>
                  <a:srgbClr val="66ff66"/>
                </a:solidFill>
                <a:latin typeface="Arial"/>
              </a:rPr>
              <a:t>Legenda slik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787320" y="152892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Sadrži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3370320" y="2179800"/>
            <a:ext cx="23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naslov slik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368520" y="2716200"/>
            <a:ext cx="38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opis simbola i kratic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1201680" y="4005720"/>
            <a:ext cx="727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Sve to kao kontinuirani tekst s točka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između pojedinih dijelova (rečenica)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Legende slika dolaze, kontinuirano jedn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ispod druge, na novoj stranici prije slika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Slike se označuju rednim brojem i imeno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prvog autora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396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REZ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2781720" y="1052640"/>
            <a:ext cx="42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ff66"/>
                </a:solidFill>
                <a:latin typeface="Arial"/>
              </a:rPr>
              <a:t>Prikaz brojčanih podatak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763560" y="1773360"/>
            <a:ext cx="806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Arial"/>
              </a:rPr>
              <a:t>izbjegavajte rimske brojeve (osim za kranijalne živce, čimbenike zgrušavanja i svjetske ratove)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763560" y="2852640"/>
            <a:ext cx="7920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Arial"/>
              </a:rPr>
              <a:t>prikažite omjere i postotke (N&gt;</a:t>
            </a:r>
            <a:r>
              <a:rPr b="0" lang="hr-HR" sz="2600" spc="-1" strike="noStrike">
                <a:solidFill>
                  <a:srgbClr val="ffff00"/>
                </a:solidFill>
                <a:latin typeface="Arial"/>
                <a:ea typeface="Arial"/>
              </a:rPr>
              <a:t>≈100)</a:t>
            </a:r>
            <a:r>
              <a:rPr b="0" lang="hr-HR" sz="2600" spc="-1" strike="noStrike">
                <a:solidFill>
                  <a:srgbClr val="ffff00"/>
                </a:solidFill>
                <a:latin typeface="Arial"/>
              </a:rPr>
              <a:t>; kod malog uzorka, ponudite apsolutne brojeve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760320" y="3978360"/>
            <a:ext cx="662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hr-HR" sz="2600" spc="-1" strike="noStrike">
                <a:solidFill>
                  <a:srgbClr val="ffff00"/>
                </a:solidFill>
                <a:latin typeface="Arial"/>
              </a:rPr>
              <a:t>p vrijednosti (p= ili p&lt;)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775440" y="4605480"/>
            <a:ext cx="610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hr-HR" sz="2600" spc="-1" strike="noStrike">
                <a:solidFill>
                  <a:srgbClr val="ffff00"/>
                </a:solidFill>
                <a:latin typeface="Arial"/>
              </a:rPr>
              <a:t>navedite intervale vjerodostojnosti (CI)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763560" y="5157720"/>
            <a:ext cx="868212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hr-HR" sz="2600" spc="-1" strike="noStrike">
                <a:solidFill>
                  <a:srgbClr val="ffff00"/>
                </a:solidFill>
                <a:latin typeface="Arial"/>
              </a:rPr>
              <a:t>središnja vrijednost (raspon) </a:t>
            </a:r>
            <a:r>
              <a:rPr b="0" i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r>
              <a:rPr b="0" i="1" lang="hr-HR" sz="2600" spc="-1" strike="noStrike">
                <a:solidFill>
                  <a:srgbClr val="ffff00"/>
                </a:solidFill>
                <a:latin typeface="Arial"/>
                <a:ea typeface="Arial"/>
              </a:rPr>
              <a:t>median, range</a:t>
            </a:r>
            <a:r>
              <a:rPr b="0" i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hr-HR" sz="2600" spc="-1" strike="noStrike">
                <a:solidFill>
                  <a:srgbClr val="ffff00"/>
                </a:solidFill>
                <a:latin typeface="Arial"/>
              </a:rPr>
              <a:t>aritmetička sredina (standardna devijacija) </a:t>
            </a:r>
            <a:r>
              <a:rPr b="0" i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r>
              <a:rPr b="0" i="1" lang="hr-HR" sz="2600" spc="-1" strike="noStrike">
                <a:solidFill>
                  <a:srgbClr val="ffff00"/>
                </a:solidFill>
                <a:latin typeface="Arial"/>
                <a:ea typeface="Arial"/>
              </a:rPr>
              <a:t>mean</a:t>
            </a:r>
            <a:r>
              <a:rPr b="0" i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i="1" lang="hr-HR" sz="2600" spc="-1" strike="noStrike">
                <a:solidFill>
                  <a:srgbClr val="ffff00"/>
                </a:solidFill>
                <a:latin typeface="Arial"/>
                <a:ea typeface="Arial"/>
              </a:rPr>
              <a:t>SD</a:t>
            </a:r>
            <a:r>
              <a:rPr b="0" i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4" name="Group 24"/>
          <p:cNvGrpSpPr/>
          <p:nvPr/>
        </p:nvGrpSpPr>
        <p:grpSpPr>
          <a:xfrm>
            <a:off x="4992840" y="3768840"/>
            <a:ext cx="1800000" cy="863640"/>
            <a:chOff x="4992840" y="3768840"/>
            <a:chExt cx="1800000" cy="863640"/>
          </a:xfrm>
        </p:grpSpPr>
        <p:sp>
          <p:nvSpPr>
            <p:cNvPr id="335" name="Rectangle 21"/>
            <p:cNvSpPr/>
            <p:nvPr/>
          </p:nvSpPr>
          <p:spPr>
            <a:xfrm>
              <a:off x="5248800" y="3948480"/>
              <a:ext cx="127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00"/>
                  </a:solidFill>
                  <a:latin typeface="Arial"/>
                </a:rPr>
                <a:t>p&gt;0.05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36" name="Group 23"/>
            <p:cNvGrpSpPr/>
            <p:nvPr/>
          </p:nvGrpSpPr>
          <p:grpSpPr>
            <a:xfrm>
              <a:off x="4992840" y="3768840"/>
              <a:ext cx="1800000" cy="863640"/>
              <a:chOff x="4992840" y="3768840"/>
              <a:chExt cx="1800000" cy="863640"/>
            </a:xfrm>
          </p:grpSpPr>
          <p:sp>
            <p:nvSpPr>
              <p:cNvPr id="337" name="Oval 17"/>
              <p:cNvSpPr/>
              <p:nvPr/>
            </p:nvSpPr>
            <p:spPr>
              <a:xfrm>
                <a:off x="4992840" y="3768840"/>
                <a:ext cx="1800000" cy="8636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grpSp>
            <p:nvGrpSpPr>
              <p:cNvPr id="338" name="Group 22"/>
              <p:cNvGrpSpPr/>
              <p:nvPr/>
            </p:nvGrpSpPr>
            <p:grpSpPr>
              <a:xfrm>
                <a:off x="5352840" y="3975480"/>
                <a:ext cx="936360" cy="576000"/>
                <a:chOff x="5352840" y="3975480"/>
                <a:chExt cx="936360" cy="576000"/>
              </a:xfrm>
            </p:grpSpPr>
            <p:sp>
              <p:nvSpPr>
                <p:cNvPr id="339" name="Line 19"/>
                <p:cNvSpPr/>
                <p:nvPr/>
              </p:nvSpPr>
              <p:spPr>
                <a:xfrm>
                  <a:off x="5486040" y="3975480"/>
                  <a:ext cx="720360" cy="576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20"/>
                <p:cNvSpPr/>
                <p:nvPr/>
              </p:nvSpPr>
              <p:spPr>
                <a:xfrm flipV="1">
                  <a:off x="5352840" y="4000680"/>
                  <a:ext cx="936360" cy="432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500"/>
                            </p:stCondLst>
                            <p:childTnLst>
                              <p:par>
                                <p:cTn id="8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graf 3"/>
          <p:cNvPicPr/>
          <p:nvPr/>
        </p:nvPicPr>
        <p:blipFill>
          <a:blip r:embed="rId1"/>
          <a:stretch/>
        </p:blipFill>
        <p:spPr>
          <a:xfrm>
            <a:off x="1981080" y="1447920"/>
            <a:ext cx="5410440" cy="379224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4"/>
          <p:cNvSpPr/>
          <p:nvPr/>
        </p:nvSpPr>
        <p:spPr>
          <a:xfrm>
            <a:off x="2484360" y="333360"/>
            <a:ext cx="3672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ff66"/>
                </a:solidFill>
                <a:latin typeface="Arial"/>
              </a:rPr>
              <a:t>REZULTATI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3" descr="graf 4"/>
          <p:cNvPicPr/>
          <p:nvPr/>
        </p:nvPicPr>
        <p:blipFill>
          <a:blip r:embed="rId1"/>
          <a:stretch/>
        </p:blipFill>
        <p:spPr>
          <a:xfrm>
            <a:off x="2057400" y="1447920"/>
            <a:ext cx="5334120" cy="41004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2484360" y="333360"/>
            <a:ext cx="3672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ff66"/>
                </a:solidFill>
                <a:latin typeface="Arial"/>
              </a:rPr>
              <a:t>REZULTATI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3"/>
          <p:cNvGrpSpPr/>
          <p:nvPr/>
        </p:nvGrpSpPr>
        <p:grpSpPr>
          <a:xfrm>
            <a:off x="3492360" y="3141720"/>
            <a:ext cx="1981080" cy="1211040"/>
            <a:chOff x="3492360" y="3141720"/>
            <a:chExt cx="1981080" cy="1211040"/>
          </a:xfrm>
        </p:grpSpPr>
        <p:sp>
          <p:nvSpPr>
            <p:cNvPr id="347" name="AutoShape 4"/>
            <p:cNvSpPr/>
            <p:nvPr/>
          </p:nvSpPr>
          <p:spPr>
            <a:xfrm>
              <a:off x="3492360" y="3141720"/>
              <a:ext cx="380520" cy="1211040"/>
            </a:xfrm>
            <a:custGeom>
              <a:avLst/>
              <a:gdLst>
                <a:gd name="textAreaLeft" fmla="*/ 0 w 380520"/>
                <a:gd name="textAreaRight" fmla="*/ 137520 w 380520"/>
                <a:gd name="textAreaTop" fmla="*/ 31320 h 1211040"/>
                <a:gd name="textAreaBottom" fmla="*/ 1179720 h 121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8" name="AutoShape 5"/>
            <p:cNvSpPr/>
            <p:nvPr/>
          </p:nvSpPr>
          <p:spPr>
            <a:xfrm>
              <a:off x="4330440" y="3545280"/>
              <a:ext cx="1143000" cy="403560"/>
            </a:xfrm>
            <a:custGeom>
              <a:avLst/>
              <a:gdLst>
                <a:gd name="textAreaLeft" fmla="*/ 142920 w 1143000"/>
                <a:gd name="textAreaRight" fmla="*/ 1000440 w 1143000"/>
                <a:gd name="textAreaTop" fmla="*/ 100800 h 403560"/>
                <a:gd name="textAreaBottom" fmla="*/ 302760 h 40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49" name="Group 11"/>
          <p:cNvGrpSpPr/>
          <p:nvPr/>
        </p:nvGrpSpPr>
        <p:grpSpPr>
          <a:xfrm>
            <a:off x="901800" y="2924280"/>
            <a:ext cx="2923920" cy="1672920"/>
            <a:chOff x="901800" y="2924280"/>
            <a:chExt cx="2923920" cy="1672920"/>
          </a:xfrm>
        </p:grpSpPr>
        <p:sp>
          <p:nvSpPr>
            <p:cNvPr id="350" name="Rectangle 7"/>
            <p:cNvSpPr/>
            <p:nvPr/>
          </p:nvSpPr>
          <p:spPr>
            <a:xfrm>
              <a:off x="901800" y="2924280"/>
              <a:ext cx="140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0f"/>
                  </a:solidFill>
                  <a:latin typeface="Arial"/>
                </a:rPr>
                <a:t>jasnoća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51" name="Rectangle 8"/>
            <p:cNvSpPr/>
            <p:nvPr/>
          </p:nvSpPr>
          <p:spPr>
            <a:xfrm>
              <a:off x="901800" y="4076640"/>
              <a:ext cx="29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0f"/>
                  </a:solidFill>
                  <a:latin typeface="Arial"/>
                </a:rPr>
                <a:t>jednostavnost</a:t>
              </a:r>
              <a:r>
                <a:rPr b="0" lang="en-US" sz="2800" spc="-1" strike="noStrike">
                  <a:solidFill>
                    <a:srgbClr val="ffff0f"/>
                  </a:solidFill>
                  <a:latin typeface="Arial"/>
                </a:rPr>
                <a:t>	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52" name="Group 12"/>
          <p:cNvGrpSpPr/>
          <p:nvPr/>
        </p:nvGrpSpPr>
        <p:grpSpPr>
          <a:xfrm>
            <a:off x="6013800" y="2924280"/>
            <a:ext cx="2061360" cy="1672920"/>
            <a:chOff x="6013800" y="2924280"/>
            <a:chExt cx="2061360" cy="1672920"/>
          </a:xfrm>
        </p:grpSpPr>
        <p:sp>
          <p:nvSpPr>
            <p:cNvPr id="353" name="Rectangle 9"/>
            <p:cNvSpPr/>
            <p:nvPr/>
          </p:nvSpPr>
          <p:spPr>
            <a:xfrm>
              <a:off x="6085800" y="2924280"/>
              <a:ext cx="132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0f"/>
                  </a:solidFill>
                  <a:latin typeface="Arial"/>
                </a:rPr>
                <a:t>točnost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54" name="Rectangle 10"/>
            <p:cNvSpPr/>
            <p:nvPr/>
          </p:nvSpPr>
          <p:spPr>
            <a:xfrm>
              <a:off x="6013800" y="4076640"/>
              <a:ext cx="206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ffff0f"/>
                  </a:solidFill>
                  <a:latin typeface="Arial"/>
                </a:rPr>
                <a:t>razumljivost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55" name="Rectangle 13"/>
          <p:cNvSpPr/>
          <p:nvPr/>
        </p:nvSpPr>
        <p:spPr>
          <a:xfrm>
            <a:off x="2700360" y="620640"/>
            <a:ext cx="3672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ff66"/>
                </a:solidFill>
                <a:latin typeface="Arial"/>
              </a:rPr>
              <a:t>REZULTATI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4"/>
          <p:cNvSpPr/>
          <p:nvPr/>
        </p:nvSpPr>
        <p:spPr>
          <a:xfrm>
            <a:off x="2700360" y="620640"/>
            <a:ext cx="3672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ff66"/>
                </a:solidFill>
                <a:latin typeface="Arial"/>
              </a:rPr>
              <a:t>REZULTATI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57" name="Group 5"/>
          <p:cNvGrpSpPr/>
          <p:nvPr/>
        </p:nvGrpSpPr>
        <p:grpSpPr>
          <a:xfrm>
            <a:off x="749160" y="2504880"/>
            <a:ext cx="284400" cy="292320"/>
            <a:chOff x="749160" y="2504880"/>
            <a:chExt cx="284400" cy="292320"/>
          </a:xfrm>
        </p:grpSpPr>
        <p:sp>
          <p:nvSpPr>
            <p:cNvPr id="358" name="Line 6"/>
            <p:cNvSpPr/>
            <p:nvPr/>
          </p:nvSpPr>
          <p:spPr>
            <a:xfrm>
              <a:off x="749160" y="2672280"/>
              <a:ext cx="113040" cy="1249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59" name="Line 7"/>
            <p:cNvSpPr/>
            <p:nvPr/>
          </p:nvSpPr>
          <p:spPr>
            <a:xfrm flipV="1">
              <a:off x="844920" y="2504880"/>
              <a:ext cx="188640" cy="29196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60" name="Group 8"/>
          <p:cNvGrpSpPr/>
          <p:nvPr/>
        </p:nvGrpSpPr>
        <p:grpSpPr>
          <a:xfrm>
            <a:off x="750960" y="3635280"/>
            <a:ext cx="283680" cy="292320"/>
            <a:chOff x="750960" y="3635280"/>
            <a:chExt cx="283680" cy="292320"/>
          </a:xfrm>
        </p:grpSpPr>
        <p:sp>
          <p:nvSpPr>
            <p:cNvPr id="361" name="Line 9"/>
            <p:cNvSpPr/>
            <p:nvPr/>
          </p:nvSpPr>
          <p:spPr>
            <a:xfrm>
              <a:off x="750960" y="3802320"/>
              <a:ext cx="112680" cy="1249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62" name="Line 10"/>
            <p:cNvSpPr/>
            <p:nvPr/>
          </p:nvSpPr>
          <p:spPr>
            <a:xfrm flipV="1">
              <a:off x="846360" y="3635280"/>
              <a:ext cx="188280" cy="2923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63" name="Group 17"/>
          <p:cNvGrpSpPr/>
          <p:nvPr/>
        </p:nvGrpSpPr>
        <p:grpSpPr>
          <a:xfrm>
            <a:off x="750960" y="4397040"/>
            <a:ext cx="283680" cy="292320"/>
            <a:chOff x="750960" y="4397040"/>
            <a:chExt cx="283680" cy="292320"/>
          </a:xfrm>
        </p:grpSpPr>
        <p:sp>
          <p:nvSpPr>
            <p:cNvPr id="364" name="Line 18"/>
            <p:cNvSpPr/>
            <p:nvPr/>
          </p:nvSpPr>
          <p:spPr>
            <a:xfrm>
              <a:off x="750960" y="4564440"/>
              <a:ext cx="112680" cy="1249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65" name="Line 19"/>
            <p:cNvSpPr/>
            <p:nvPr/>
          </p:nvSpPr>
          <p:spPr>
            <a:xfrm flipV="1">
              <a:off x="846360" y="4397040"/>
              <a:ext cx="188280" cy="29196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66" name="Group 23"/>
          <p:cNvGrpSpPr/>
          <p:nvPr/>
        </p:nvGrpSpPr>
        <p:grpSpPr>
          <a:xfrm>
            <a:off x="736560" y="1847520"/>
            <a:ext cx="283680" cy="292320"/>
            <a:chOff x="736560" y="1847520"/>
            <a:chExt cx="283680" cy="292320"/>
          </a:xfrm>
        </p:grpSpPr>
        <p:sp>
          <p:nvSpPr>
            <p:cNvPr id="367" name="Line 24"/>
            <p:cNvSpPr/>
            <p:nvPr/>
          </p:nvSpPr>
          <p:spPr>
            <a:xfrm>
              <a:off x="736560" y="2014920"/>
              <a:ext cx="112680" cy="1249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68" name="Line 25"/>
            <p:cNvSpPr/>
            <p:nvPr/>
          </p:nvSpPr>
          <p:spPr>
            <a:xfrm flipV="1">
              <a:off x="831960" y="1847520"/>
              <a:ext cx="188280" cy="29196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69" name="Text Box 26"/>
          <p:cNvSpPr/>
          <p:nvPr/>
        </p:nvSpPr>
        <p:spPr>
          <a:xfrm>
            <a:off x="1525680" y="167796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relevantni (%, značajne razlike, intervali...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Text Box 27"/>
          <p:cNvSpPr/>
          <p:nvPr/>
        </p:nvSpPr>
        <p:spPr>
          <a:xfrm>
            <a:off x="1525680" y="2363760"/>
            <a:ext cx="35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slijede iz postupk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Text Box 28"/>
          <p:cNvSpPr/>
          <p:nvPr/>
        </p:nvSpPr>
        <p:spPr>
          <a:xfrm>
            <a:off x="1525680" y="358632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primjeren prikaz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Text Box 29"/>
          <p:cNvSpPr/>
          <p:nvPr/>
        </p:nvSpPr>
        <p:spPr>
          <a:xfrm>
            <a:off x="2714760" y="4324320"/>
            <a:ext cx="17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tabl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Text Box 30"/>
          <p:cNvSpPr/>
          <p:nvPr/>
        </p:nvSpPr>
        <p:spPr>
          <a:xfrm>
            <a:off x="2732040" y="4921200"/>
            <a:ext cx="26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slike i grafov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31"/>
          <p:cNvSpPr/>
          <p:nvPr/>
        </p:nvSpPr>
        <p:spPr>
          <a:xfrm flipV="1">
            <a:off x="743040" y="5203800"/>
            <a:ext cx="306360" cy="1440"/>
          </a:xfrm>
          <a:prstGeom prst="line">
            <a:avLst/>
          </a:prstGeom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Text Box 32"/>
          <p:cNvSpPr/>
          <p:nvPr/>
        </p:nvSpPr>
        <p:spPr>
          <a:xfrm>
            <a:off x="1525680" y="2984400"/>
            <a:ext cx="531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samo provedenog istraživanj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76" name="Group 33"/>
          <p:cNvGrpSpPr/>
          <p:nvPr/>
        </p:nvGrpSpPr>
        <p:grpSpPr>
          <a:xfrm>
            <a:off x="758880" y="3070080"/>
            <a:ext cx="283680" cy="292320"/>
            <a:chOff x="758880" y="3070080"/>
            <a:chExt cx="283680" cy="292320"/>
          </a:xfrm>
        </p:grpSpPr>
        <p:sp>
          <p:nvSpPr>
            <p:cNvPr id="377" name="Line 34"/>
            <p:cNvSpPr/>
            <p:nvPr/>
          </p:nvSpPr>
          <p:spPr>
            <a:xfrm>
              <a:off x="758880" y="3237120"/>
              <a:ext cx="112680" cy="1249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78" name="Line 35"/>
            <p:cNvSpPr/>
            <p:nvPr/>
          </p:nvSpPr>
          <p:spPr>
            <a:xfrm flipV="1">
              <a:off x="854280" y="3070080"/>
              <a:ext cx="188280" cy="2923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500"/>
                            </p:stCondLst>
                            <p:childTnLst>
                              <p:par>
                                <p:cTn id="8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2916360" y="189000"/>
            <a:ext cx="3384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RASPRAV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684360" y="1479600"/>
            <a:ext cx="7775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00"/>
                </a:solidFill>
                <a:latin typeface="Arial"/>
              </a:rPr>
              <a:t>Ukratko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00"/>
                </a:solidFill>
                <a:latin typeface="Arial"/>
              </a:rPr>
              <a:t>navedite glavn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00"/>
                </a:solidFill>
                <a:latin typeface="Arial"/>
              </a:rPr>
              <a:t>rezultate svog istraži-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00"/>
                </a:solidFill>
                <a:latin typeface="Arial"/>
              </a:rPr>
              <a:t>vanja.  Počnite odgovoro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00"/>
                </a:solidFill>
                <a:latin typeface="Arial"/>
              </a:rPr>
              <a:t>na pitanje postavljeno na početku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00"/>
                </a:solidFill>
                <a:latin typeface="Arial"/>
              </a:rPr>
              <a:t>članka, koji proizlazi iz podataka u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ff00"/>
                </a:solidFill>
                <a:latin typeface="Arial"/>
              </a:rPr>
              <a:t>Rezultatima</a:t>
            </a:r>
            <a:r>
              <a:rPr b="1" lang="hr-HR" sz="1800" spc="-1" strike="noStrike">
                <a:solidFill>
                  <a:srgbClr val="ffff00"/>
                </a:solidFill>
                <a:latin typeface="Arial"/>
              </a:rPr>
              <a:t>. Navedite ograničenja i otklon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00"/>
                </a:solidFill>
                <a:latin typeface="Arial"/>
              </a:rPr>
              <a:t>istraživanja te ih usporedite s drugim istraživanjima i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00"/>
                </a:solidFill>
                <a:latin typeface="Arial"/>
              </a:rPr>
              <a:t>raspravite što oni znače u teorijskom i praktičnom smislu.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00"/>
                </a:solidFill>
                <a:latin typeface="Arial"/>
              </a:rPr>
              <a:t>Pažljivo izvedite zaključke i predložite buduća istraživanja; istak-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00"/>
                </a:solidFill>
                <a:latin typeface="Arial"/>
              </a:rPr>
              <a:t>nite što je novo i kako se Vaši rezultati uklapaju u šire područje koje ste opisali na početku </a:t>
            </a:r>
            <a:r>
              <a:rPr b="1" i="1" lang="hr-HR" sz="1800" spc="-1" strike="noStrike">
                <a:solidFill>
                  <a:srgbClr val="ffff00"/>
                </a:solidFill>
                <a:latin typeface="Arial"/>
              </a:rPr>
              <a:t>Uvoda</a:t>
            </a:r>
            <a:r>
              <a:rPr b="1" lang="hr-HR" sz="1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900000" y="1413000"/>
            <a:ext cx="2857680" cy="12016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1116000" y="1125360"/>
            <a:ext cx="7343640" cy="43196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250920" y="979560"/>
            <a:ext cx="8713800" cy="5473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0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900000" y="5300640"/>
            <a:ext cx="7772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Na koja se pitanja nije odgovorilo i u kojem smjeru nastaviti istraživanje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?</a:t>
            </a:r>
            <a:r>
              <a:rPr b="0" i="1" lang="en-GB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901080" y="1197000"/>
            <a:ext cx="54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Koji je glavni nalaz istraživanj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900000" y="1844640"/>
            <a:ext cx="806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Koje su kvalitete, a koje slabosti istraživanja u odnosu na druga istraživanja u tom području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900000" y="2997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Zašto ste dobili različite rezultate od drugih istraživač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900000" y="414972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Što nalaz ovog istraživanja znači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osobito za kliničare i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policy maker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2916360" y="189000"/>
            <a:ext cx="3384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RASPRAV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90" name="Picture 9" descr="ED00281_"/>
          <p:cNvPicPr/>
          <p:nvPr/>
        </p:nvPicPr>
        <p:blipFill>
          <a:blip r:embed="rId1"/>
          <a:stretch/>
        </p:blipFill>
        <p:spPr>
          <a:xfrm>
            <a:off x="7667640" y="5734080"/>
            <a:ext cx="127476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500"/>
                            </p:stCondLst>
                            <p:childTnLst>
                              <p:par>
                                <p:cTn id="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755640" y="54936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OBLICI ZNANSTVENIH ČLANAK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258920" y="1628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Izvorni znanstve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258920" y="2637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Pregled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258920" y="364500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Prikaz bolesnik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259280" y="4653000"/>
            <a:ext cx="332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Pismo urednik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258920" y="551664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ostalo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(book review, preliminary report...)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4"/>
          <p:cNvSpPr/>
          <p:nvPr/>
        </p:nvSpPr>
        <p:spPr>
          <a:xfrm>
            <a:off x="1409760" y="5132520"/>
            <a:ext cx="73310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na koja se pitanja nije odgovorilo i u kojem smjeru nastaviti istraživanje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?</a:t>
            </a:r>
            <a:r>
              <a:rPr b="0" i="1" lang="en-GB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1360080" y="1197000"/>
            <a:ext cx="41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glavni nalaz istraživanj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1376280" y="1908000"/>
            <a:ext cx="53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prednosti i slabosti istraživanj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1376280" y="2600280"/>
            <a:ext cx="669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slični/različiti rezultati u odnosu na druga istraživanja i zaš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1417680" y="3646440"/>
            <a:ext cx="57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značenje nalaza ovog istraživanj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2916360" y="189000"/>
            <a:ext cx="3384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RASPRAV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Text Box 28"/>
          <p:cNvSpPr/>
          <p:nvPr/>
        </p:nvSpPr>
        <p:spPr>
          <a:xfrm>
            <a:off x="1422360" y="4383000"/>
            <a:ext cx="21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referencij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ZAHV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04480" y="1600200"/>
            <a:ext cx="814716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Osobama koje su Vam pomogle, ali nisu učinile dovoljno da postanu autori (npr. donatoru materijala, statističaru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1187280" y="39337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Izvor financiranja (npr. broj projekta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1" name="Picture 7" descr="j0104818"/>
          <p:cNvPicPr/>
          <p:nvPr/>
        </p:nvPicPr>
        <p:blipFill>
          <a:blip r:embed="rId1"/>
          <a:stretch/>
        </p:blipFill>
        <p:spPr>
          <a:xfrm>
            <a:off x="6877080" y="5661000"/>
            <a:ext cx="1812960" cy="57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3816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REFEREN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2880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ff66"/>
                </a:solidFill>
                <a:latin typeface="Arial"/>
              </a:rPr>
              <a:t>Vancouver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899640" y="407664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ff66"/>
                </a:solidFill>
                <a:latin typeface="Arial"/>
              </a:rPr>
              <a:t>Harvardsk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1835280" y="2419200"/>
            <a:ext cx="6984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746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numerirane po redosljedu pojavljivanja u tekst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1835280" y="2924280"/>
            <a:ext cx="62578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popis referencija po rednim brojevim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Rectangle 10"/>
          <p:cNvSpPr/>
          <p:nvPr/>
        </p:nvSpPr>
        <p:spPr>
          <a:xfrm>
            <a:off x="1835280" y="1916280"/>
            <a:ext cx="6306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746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u tekstu se navodi broj referencij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835280" y="4869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74680"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u tekstu se navodi prezime autora i godin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1835280" y="544500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74680"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popis po abecednom redu autor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PRVI AUTOR</a:t>
            </a:r>
            <a:br>
              <a:rPr sz="3600"/>
            </a:br>
            <a:r>
              <a:rPr b="0" i="1" lang="hr-HR" sz="2400" spc="-1" strike="noStrike">
                <a:solidFill>
                  <a:srgbClr val="66ff66"/>
                </a:solidFill>
                <a:latin typeface="Arial"/>
              </a:rPr>
              <a:t>CORRESPONDING 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620440" y="2287440"/>
            <a:ext cx="4038840" cy="22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Ime i prez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Adresa institu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E-mail ad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Broj telefona i fax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j0225362"/>
          <p:cNvPicPr/>
          <p:nvPr/>
        </p:nvPicPr>
        <p:blipFill>
          <a:blip r:embed="rId1"/>
          <a:stretch/>
        </p:blipFill>
        <p:spPr>
          <a:xfrm>
            <a:off x="7380360" y="4653000"/>
            <a:ext cx="1444680" cy="16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95280" y="453816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861480" y="324000"/>
            <a:ext cx="37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Pišit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ff66"/>
                </a:solidFill>
                <a:latin typeface="Arial"/>
              </a:rPr>
              <a:t>“scenari</a:t>
            </a:r>
            <a:r>
              <a:rPr b="0" lang="hr-HR" sz="3600" spc="-1" strike="noStrike">
                <a:solidFill>
                  <a:srgbClr val="66ff66"/>
                </a:solidFill>
                <a:latin typeface="Arial"/>
              </a:rPr>
              <a:t>j</a:t>
            </a:r>
            <a:r>
              <a:rPr b="0" lang="en-US" sz="3600" spc="-1" strike="noStrike">
                <a:solidFill>
                  <a:srgbClr val="66ff66"/>
                </a:solidFill>
                <a:latin typeface="Arial"/>
              </a:rPr>
              <a:t>”</a:t>
            </a:r>
            <a:r>
              <a:rPr b="0" lang="hr-HR" sz="3600" spc="-1" strike="noStrike">
                <a:solidFill>
                  <a:srgbClr val="66ff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1978200" y="981000"/>
            <a:ext cx="53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Tko, gdje, kada, što, kako i zaš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266760" y="1757520"/>
            <a:ext cx="869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Održite </a:t>
            </a:r>
            <a:r>
              <a:rPr b="0" lang="hr-HR" sz="3600" spc="-1" strike="noStrike">
                <a:solidFill>
                  <a:srgbClr val="66ff66"/>
                </a:solidFill>
                <a:latin typeface="Arial"/>
              </a:rPr>
              <a:t>“usporednost</a:t>
            </a:r>
            <a:r>
              <a:rPr b="0" lang="en-US" sz="3600" spc="-1" strike="noStrike">
                <a:solidFill>
                  <a:srgbClr val="66ff66"/>
                </a:solidFill>
                <a:latin typeface="Arial"/>
              </a:rPr>
              <a:t>”</a:t>
            </a:r>
            <a:r>
              <a:rPr b="0" lang="hr-HR" sz="3600" spc="-1" strike="noStrike">
                <a:solidFill>
                  <a:srgbClr val="66ff66"/>
                </a:solidFill>
                <a:latin typeface="Arial"/>
              </a:rPr>
              <a:t> i logiku prikaza u</a:t>
            </a:r>
            <a:br>
              <a:rPr sz="3600"/>
            </a:br>
            <a:r>
              <a:rPr b="0" lang="hr-HR" sz="3600" spc="-1" strike="noStrike">
                <a:solidFill>
                  <a:srgbClr val="66ff66"/>
                </a:solidFill>
                <a:latin typeface="Arial"/>
              </a:rPr>
              <a:t>   svim dijelovima člank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Rectangle 15"/>
          <p:cNvSpPr/>
          <p:nvPr/>
        </p:nvSpPr>
        <p:spPr>
          <a:xfrm>
            <a:off x="1128600" y="3240000"/>
            <a:ext cx="70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3600" spc="-1" strike="noStrike">
                <a:solidFill>
                  <a:srgbClr val="66ff66"/>
                </a:solidFill>
                <a:latin typeface="Arial"/>
              </a:rPr>
              <a:t>Kratke</a:t>
            </a: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 riječi,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3600" spc="-1" strike="noStrike">
                <a:solidFill>
                  <a:srgbClr val="66ff66"/>
                </a:solidFill>
                <a:latin typeface="Arial"/>
              </a:rPr>
              <a:t>kratke</a:t>
            </a: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 rečenice,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3600" spc="-1" strike="noStrike">
                <a:solidFill>
                  <a:srgbClr val="66ff66"/>
                </a:solidFill>
                <a:latin typeface="Arial"/>
              </a:rPr>
              <a:t>kratki</a:t>
            </a: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 odjeljci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1119240" y="4735440"/>
            <a:ext cx="598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Jasno,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sažeto,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jednostavno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0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2916360" y="189000"/>
            <a:ext cx="324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Sti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762120" y="414972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1187280" y="1773360"/>
            <a:ext cx="17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50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žarg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1187280" y="2852640"/>
            <a:ext cx="1729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5040"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clich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é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1188000" y="105264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Izbjegavati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1187280" y="2349360"/>
            <a:ext cx="41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50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skraćenice i akronim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Rectangle 11"/>
          <p:cNvSpPr/>
          <p:nvPr/>
        </p:nvSpPr>
        <p:spPr>
          <a:xfrm>
            <a:off x="1187280" y="350028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figure govora (metafore, metonimije, etc) i idiom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Rectangle 12"/>
          <p:cNvSpPr/>
          <p:nvPr/>
        </p:nvSpPr>
        <p:spPr>
          <a:xfrm>
            <a:off x="1188720" y="4437000"/>
            <a:ext cx="52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5040" indent="-3650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općenitost – budite”konkretni”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Rectangle 13"/>
          <p:cNvSpPr/>
          <p:nvPr/>
        </p:nvSpPr>
        <p:spPr>
          <a:xfrm>
            <a:off x="1187280" y="508464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50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dvostruku negaciju (“nije ne loše”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Rectangle 14"/>
          <p:cNvSpPr/>
          <p:nvPr/>
        </p:nvSpPr>
        <p:spPr>
          <a:xfrm>
            <a:off x="1042920" y="573408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258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ponavljanje, digresije i i kićeno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9" name="Picture 15" descr="j0281179"/>
          <p:cNvPicPr/>
          <p:nvPr/>
        </p:nvPicPr>
        <p:blipFill>
          <a:blip r:embed="rId1"/>
          <a:stretch/>
        </p:blipFill>
        <p:spPr>
          <a:xfrm>
            <a:off x="6516720" y="692280"/>
            <a:ext cx="1681200" cy="92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410920" y="260280"/>
            <a:ext cx="45370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Glagolsko vrijeme</a:t>
            </a:r>
            <a:br>
              <a:rPr sz="4000"/>
            </a:br>
            <a:r>
              <a:rPr b="0" lang="hr-HR" sz="2400" spc="-1" strike="noStrike">
                <a:solidFill>
                  <a:srgbClr val="66ff66"/>
                </a:solidFill>
                <a:latin typeface="Arial"/>
              </a:rPr>
              <a:t>(engles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36480" y="1557360"/>
            <a:ext cx="85075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799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ff66"/>
                </a:solidFill>
                <a:latin typeface="Arial"/>
              </a:rPr>
              <a:t>Uvod –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present simple, present perfect, past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      simple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539640" y="2997360"/>
            <a:ext cx="8507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72880">
              <a:spcBef>
                <a:spcPts val="799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ff66"/>
                </a:solidFill>
                <a:latin typeface="Arial"/>
              </a:rPr>
              <a:t>Postupci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&amp; </a:t>
            </a:r>
            <a:r>
              <a:rPr b="0" lang="hr-HR" sz="3200" spc="-1" strike="noStrike">
                <a:solidFill>
                  <a:srgbClr val="66ff66"/>
                </a:solidFill>
                <a:latin typeface="Arial"/>
              </a:rPr>
              <a:t>Rezultati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– past simple,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      pluperfec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636480" y="4581360"/>
            <a:ext cx="850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799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ff66"/>
                </a:solidFill>
                <a:latin typeface="Arial"/>
              </a:rPr>
              <a:t>Rasprav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– past simple, present simple,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    present perfect, future..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0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0"/>
          <p:cNvSpPr/>
          <p:nvPr/>
        </p:nvSpPr>
        <p:spPr>
          <a:xfrm>
            <a:off x="1535040" y="657360"/>
            <a:ext cx="583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f0000"/>
                </a:solidFill>
                <a:latin typeface="Arial"/>
              </a:rPr>
              <a:t>IMRaD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Text Box 21"/>
          <p:cNvSpPr/>
          <p:nvPr/>
        </p:nvSpPr>
        <p:spPr>
          <a:xfrm>
            <a:off x="838080" y="2211480"/>
            <a:ext cx="79725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fff00"/>
                </a:solidFill>
                <a:latin typeface="Arial"/>
              </a:rPr>
              <a:t>ICMJE requirements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(I</a:t>
            </a:r>
            <a:r>
              <a:rPr b="1" lang="hr-HR" sz="2000" spc="-1" strike="noStrike">
                <a:solidFill>
                  <a:srgbClr val="66ff66"/>
                </a:solidFill>
                <a:latin typeface="Arial"/>
              </a:rPr>
              <a:t>nternational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 C</a:t>
            </a:r>
            <a:r>
              <a:rPr b="1" lang="hr-HR" sz="2000" spc="-1" strike="noStrike">
                <a:solidFill>
                  <a:srgbClr val="66ff66"/>
                </a:solidFill>
                <a:latin typeface="Arial"/>
              </a:rPr>
              <a:t>ommittee of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lang="hr-HR" sz="2000" spc="-1" strike="noStrike">
                <a:solidFill>
                  <a:srgbClr val="66ff66"/>
                </a:solidFill>
                <a:latin typeface="Arial"/>
              </a:rPr>
              <a:t>edical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1" lang="hr-HR" sz="2000" spc="-1" strike="noStrike">
                <a:solidFill>
                  <a:srgbClr val="66ff66"/>
                </a:solidFill>
                <a:latin typeface="Arial"/>
              </a:rPr>
              <a:t>ournal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hr-HR" sz="2000" spc="-1" strike="noStrike">
                <a:solidFill>
                  <a:srgbClr val="66ff66"/>
                </a:solidFill>
                <a:latin typeface="Arial"/>
              </a:rPr>
              <a:t>ditors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6" name="Rectangle 22"/>
          <p:cNvSpPr/>
          <p:nvPr/>
        </p:nvSpPr>
        <p:spPr>
          <a:xfrm>
            <a:off x="822240" y="3523320"/>
            <a:ext cx="813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Uniform Requirements for Manuscripts Submitted to Biomedical Journa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2907360" y="5137200"/>
            <a:ext cx="34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00"/>
                </a:solidFill>
                <a:latin typeface="Arial"/>
              </a:rPr>
              <a:t>http://www.icmje.org/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1187280" y="333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ff66"/>
                </a:solidFill>
                <a:latin typeface="Arial"/>
              </a:rPr>
              <a:t>Kratke</a:t>
            </a: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 riječi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1187280" y="2637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ff66"/>
                </a:solidFill>
                <a:latin typeface="Arial"/>
              </a:rPr>
              <a:t>Kratke</a:t>
            </a: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 rečenic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1187280" y="4797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ff66"/>
                </a:solidFill>
                <a:latin typeface="Arial"/>
              </a:rPr>
              <a:t>Kratki</a:t>
            </a: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 odjeljci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1547640" y="3244680"/>
            <a:ext cx="741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duge rečenice nisu nužno nerazumljivije nego kratk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74680" indent="-274680"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dužina nije problem, nego složena sintak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1546200" y="541980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odjeljci zaokružuju malu tematsku cjelin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1547640" y="59245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podnaslov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1547640" y="105264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radije upotrijebite hrvatsku/englesku riječ umjesto latinsk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5" name="Rectangle 14"/>
          <p:cNvSpPr/>
          <p:nvPr/>
        </p:nvSpPr>
        <p:spPr>
          <a:xfrm>
            <a:off x="1555560" y="1989000"/>
            <a:ext cx="63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4680" indent="-274680" algn="ctr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budite oprezni s uporabom pridjeva i prilog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0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1187280" y="1779840"/>
            <a:ext cx="79567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kad pročitamo subjekt rečenice, očekujemo odmah i predikat</a:t>
            </a:r>
            <a:br>
              <a:rPr sz="2400"/>
            </a:b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rečenica je razumljivija kad predikat sljedi odmah iza subjekt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2411280" y="33336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ff66"/>
                </a:solidFill>
                <a:latin typeface="Arial"/>
              </a:rPr>
              <a:t>Imenice i glagoli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1187280" y="483408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aktivne rečenice su obično razumljivije od pasivnih (posebice ako govore o ljudima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74680" indent="-2746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ne mora svaka rečenica biti u aktivnom oblik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1440360" y="11253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Dođite brzo do glagola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474920" y="41450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Aktivni vid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900000" y="189000"/>
            <a:ext cx="786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HIJERARHIJSKA VRIJEDNOST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ISTRAŽIVANJ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815040" y="177336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1. Meta-analiz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815400" y="2514600"/>
            <a:ext cx="68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2. Randomizirani kontrolirani klinički poku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813960" y="3279600"/>
            <a:ext cx="60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3. Kohortno prospektivno istraživanj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12880" y="4021200"/>
            <a:ext cx="833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4. Retrospektivno istraživanje (case-control study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813600" y="4732200"/>
            <a:ext cx="41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5. Presječno istraživanj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" name="Picture 10" descr="BD19629_"/>
          <p:cNvPicPr/>
          <p:nvPr/>
        </p:nvPicPr>
        <p:blipFill>
          <a:blip r:embed="rId1"/>
          <a:stretch/>
        </p:blipFill>
        <p:spPr>
          <a:xfrm>
            <a:off x="7804080" y="5283360"/>
            <a:ext cx="1339920" cy="15714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1"/>
          <p:cNvSpPr/>
          <p:nvPr/>
        </p:nvSpPr>
        <p:spPr>
          <a:xfrm>
            <a:off x="830160" y="5367240"/>
            <a:ext cx="71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6. Prikaz slučaja (case series &amp; case report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KARIK"/>
          <p:cNvPicPr/>
          <p:nvPr/>
        </p:nvPicPr>
        <p:blipFill>
          <a:blip r:embed="rId1"/>
          <a:stretch/>
        </p:blipFill>
        <p:spPr>
          <a:xfrm>
            <a:off x="0" y="0"/>
            <a:ext cx="4789440" cy="685656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7"/>
          <p:cNvSpPr/>
          <p:nvPr/>
        </p:nvSpPr>
        <p:spPr>
          <a:xfrm>
            <a:off x="5318280" y="402732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Pitanja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Text Box 8"/>
          <p:cNvSpPr/>
          <p:nvPr/>
        </p:nvSpPr>
        <p:spPr>
          <a:xfrm>
            <a:off x="5253120" y="1228680"/>
            <a:ext cx="350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00"/>
                </a:solidFill>
                <a:latin typeface="Arial"/>
              </a:rPr>
              <a:t>Tekst se može beskonačno popravljati…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IZVORNI ZNANSTVENI ČLANAK </a:t>
            </a:r>
            <a:br>
              <a:rPr sz="4000"/>
            </a:b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(primarna znanstvena publikacija)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4149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Objavak mora biti </a:t>
            </a:r>
            <a:r>
              <a:rPr b="0" lang="hr-HR" sz="2400" spc="-1" strike="noStrike">
                <a:solidFill>
                  <a:srgbClr val="99ff33"/>
                </a:solidFill>
                <a:latin typeface="Arial"/>
              </a:rPr>
              <a:t>dostupan</a:t>
            </a:r>
            <a:r>
              <a:rPr b="0" lang="hr-HR" sz="24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znanstvenoj javnosti </a:t>
            </a:r>
            <a:r>
              <a:rPr b="0" lang="hr-HR" sz="2400" spc="-1" strike="noStrike">
                <a:solidFill>
                  <a:srgbClr val="99ff33"/>
                </a:solidFill>
                <a:latin typeface="Arial"/>
              </a:rPr>
              <a:t>u trajnom obliku i bez ograničenja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, te dostupan </a:t>
            </a:r>
            <a:r>
              <a:rPr b="0" lang="hr-HR" sz="2400" spc="-1" strike="noStrike">
                <a:solidFill>
                  <a:srgbClr val="99ff33"/>
                </a:solidFill>
                <a:latin typeface="Arial"/>
              </a:rPr>
              <a:t>redovitom pretraživanju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 koji rade glavne (poznate) sekundarne (indeksne) publikacije (</a:t>
            </a:r>
            <a:r>
              <a:rPr b="0" lang="hr-HR" sz="2200" spc="-1" strike="noStrike">
                <a:solidFill>
                  <a:srgbClr val="99ff33"/>
                </a:solidFill>
                <a:latin typeface="Arial"/>
              </a:rPr>
              <a:t>Index Medicus, Excerpta Medica, Current Contents,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 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932360" y="47628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755640" y="1700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Prva objava rezultata znanstvenog istraživanja, koja sadrži dovoljno podataka da drugi istraživači mog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515880" y="2641680"/>
            <a:ext cx="25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proučiti dokaz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515880" y="3130560"/>
            <a:ext cx="29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ponoviti poku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515880" y="3589200"/>
            <a:ext cx="46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procijeniti donesene zaključk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3409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GRAĐA ZNANSTVENOG ČLAN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34920" y="2276280"/>
            <a:ext cx="259236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835280" y="3068640"/>
            <a:ext cx="16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tho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835280" y="3789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ul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835280" y="4508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835280" y="522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cus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4643280" y="2273400"/>
            <a:ext cx="16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  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Uvo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4651560" y="3065400"/>
            <a:ext cx="22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  Postupc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4643280" y="37861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  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Rezultat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4678200" y="458136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     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4658400" y="5251320"/>
            <a:ext cx="243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Rasprav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"/>
          <p:cNvSpPr/>
          <p:nvPr/>
        </p:nvSpPr>
        <p:spPr>
          <a:xfrm>
            <a:off x="790560" y="47628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GRAĐA ZNANSTVENOG ČLANK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261080" y="256860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Uvo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60360" y="3417840"/>
            <a:ext cx="18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Postupc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260360" y="422604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Rezultati</a:t>
            </a:r>
            <a:r>
              <a:rPr b="1" lang="hr-HR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258920" y="501660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Rasprav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4067280" y="25686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Što smo htjeli istražiti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4068360" y="3525840"/>
            <a:ext cx="38887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Kako smo to istražili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4069440" y="4330800"/>
            <a:ext cx="33735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Što smo pronašli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4079880" y="5148360"/>
            <a:ext cx="25844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Što to znači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2484360" y="1557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IMRa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5334120"/>
            <a:ext cx="853452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997360" y="355680"/>
            <a:ext cx="29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ff66"/>
                </a:solidFill>
                <a:latin typeface="Arial"/>
              </a:rPr>
              <a:t>NASLOV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987120" y="1770120"/>
            <a:ext cx="59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ff66"/>
                </a:solidFill>
                <a:latin typeface="Arial"/>
              </a:rPr>
              <a:t>Svrha -</a:t>
            </a:r>
            <a:r>
              <a:rPr b="0" lang="hr-HR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stavljanje u konteks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332000" y="3568680"/>
            <a:ext cx="75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čitatelji imaju prethodna iskustva i znanj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74680" indent="-2746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odgovarajući naslov pomaže stvaranje korisnih asocijacij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1333800" y="2981160"/>
            <a:ext cx="43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Naslov treba biti razumljiv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1403280" y="51544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Navesti </a:t>
            </a:r>
            <a:r>
              <a:rPr b="0" lang="hr-HR" sz="3200" spc="-1" strike="noStrike">
                <a:solidFill>
                  <a:srgbClr val="66ff66"/>
                </a:solidFill>
                <a:latin typeface="Arial"/>
              </a:rPr>
              <a:t>ustroj studij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09:40:05Z</dcterms:created>
  <dc:creator>Mišak Aleksandra</dc:creator>
  <dc:description/>
  <dc:language>en-US</dc:language>
  <cp:lastModifiedBy>HUM</cp:lastModifiedBy>
  <dcterms:modified xsi:type="dcterms:W3CDTF">2017-02-20T09:09:41Z</dcterms:modified>
  <cp:revision>776</cp:revision>
  <dc:subject/>
  <dc:title>Slide 1</dc:title>
</cp:coreProperties>
</file>