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png" ContentType="image/png"/>
  <Override PartName="/ppt/media/image1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media/image9.wmf" ContentType="image/x-wmf"/>
  <Override PartName="/ppt/media/image1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4DC4-0A83-46B4-B7A7-A1A102AC402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D8DC-515B-488F-9F2B-E22F52A5F61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lučajni uzorak – daje veliku vjerojatnost reprezentativnog uzorka (često preskupo ili nemoguć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istematski – oblik slučajnog uzorka – ima smisla samo ako je lista sastavljena bez smislenog sus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tratificirani – često bolja reprezentativnost nego kod slučajnog uzor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laster – lošija verzija slučajnog uzorka (djelomično i stra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votni – još lošiji (zapravo neslučajni stratificir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igodni – često jedina mogućnost, može biti sasvim u redu ali paziti na probleme (npr. Psihijatar procjenjuje % frigidnih že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6E2A-7DD9-42C9-9CA1-2110CDAE56F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lučajni uzorak – daje veliku vjerojatnost reprezentativnog uzorka (često preskupo ili nemoguć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istematski – oblik slučajnog uzorka – ima smisla samo ako je lista sastavljena bez smislenog sus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tratificirani – često bolja reprezentativnost nego kod slučajnog uzor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laster – lošija verzija slučajnog uzorka (djelomično i stra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votni – još lošiji (zapravo neslučajni stratificir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igodni – često jedina mogućnost, može biti sasvim u redu ali paziti na probleme (npr. Psihijatar procjenjuje % frigidnih že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931B-46EA-4B28-BC30-C02E2726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3CC-4700-4EB9-9375-37EF111E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31F-E0D4-47B5-A4CE-D9E49D7F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AB4-2699-47BA-83D8-2A2840BE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FB2-B96F-45D0-8580-9EE6475F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205-A148-4FB5-A309-C1563BE5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F03-68B6-4FA3-A5E2-9F45E2BC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DFE-85F6-4A43-9755-08172B96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1BD-D44F-49F8-B84E-44914F5E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C95A-7F50-487C-B029-6A6E23C1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438-AF22-441A-B618-1AE63C11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9CCC-D9EC-4675-AD93-A5716726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A5DB-1984-4805-AB85-5EA50988104F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tree%20cartoon%2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3233880" y="5931000"/>
            <a:ext cx="15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99"/>
                </a:solidFill>
                <a:latin typeface="Arial"/>
              </a:rPr>
              <a:t>Planiranje</a:t>
            </a:r>
            <a:br>
              <a:rPr sz="1600"/>
            </a:br>
            <a:r>
              <a:rPr b="1" lang="hr-HR" sz="1600" spc="-1" strike="noStrike">
                <a:solidFill>
                  <a:srgbClr val="ffff99"/>
                </a:solidFill>
                <a:latin typeface="Arial"/>
              </a:rPr>
              <a:t>istraživanja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230640" y="5054760"/>
            <a:ext cx="14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99"/>
                </a:solidFill>
                <a:latin typeface="Arial"/>
              </a:rPr>
              <a:t>Prikupljanje</a:t>
            </a:r>
            <a:br>
              <a:rPr sz="1600"/>
            </a:br>
            <a:r>
              <a:rPr b="1" lang="hr-HR" sz="1600" spc="-1" strike="noStrike">
                <a:solidFill>
                  <a:srgbClr val="ffff99"/>
                </a:solidFill>
                <a:latin typeface="Arial"/>
              </a:rPr>
              <a:t>podataka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428840" y="3174840"/>
            <a:ext cx="20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99"/>
                </a:solidFill>
                <a:latin typeface="Arial"/>
              </a:rPr>
              <a:t>Obrada podataka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581720" y="2362320"/>
            <a:ext cx="21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99"/>
                </a:solidFill>
                <a:latin typeface="Arial"/>
              </a:rPr>
              <a:t>Tumačenje rezultata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072960" y="424512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99"/>
                </a:solidFill>
                <a:latin typeface="Arial"/>
              </a:rPr>
              <a:t>Unos</a:t>
            </a:r>
            <a:br>
              <a:rPr sz="1600"/>
            </a:br>
            <a:r>
              <a:rPr b="1" lang="hr-HR" sz="1600" spc="-1" strike="noStrike">
                <a:solidFill>
                  <a:srgbClr val="ffff99"/>
                </a:solidFill>
                <a:latin typeface="Arial"/>
              </a:rPr>
              <a:t>podataka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4" name="Group 44"/>
          <p:cNvGrpSpPr/>
          <p:nvPr/>
        </p:nvGrpSpPr>
        <p:grpSpPr>
          <a:xfrm>
            <a:off x="0" y="0"/>
            <a:ext cx="3554280" cy="3238560"/>
            <a:chOff x="0" y="0"/>
            <a:chExt cx="3554280" cy="3238560"/>
          </a:xfrm>
        </p:grpSpPr>
        <p:pic>
          <p:nvPicPr>
            <p:cNvPr id="55" name="Picture 12" descr="sun-cartoo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554280" cy="32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3"/>
            <p:cNvSpPr/>
            <p:nvPr/>
          </p:nvSpPr>
          <p:spPr>
            <a:xfrm>
              <a:off x="863640" y="1488960"/>
              <a:ext cx="173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cc"/>
                  </a:solidFill>
                  <a:latin typeface="Arial"/>
                </a:rPr>
                <a:t>STATISTIČAR</a:t>
              </a:r>
              <a:endParaRPr b="0" lang="en-US" sz="16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57" name="Line 37"/>
          <p:cNvSpPr/>
          <p:nvPr/>
        </p:nvSpPr>
        <p:spPr>
          <a:xfrm flipH="1" flipV="1">
            <a:off x="2230560" y="3659040"/>
            <a:ext cx="1247760" cy="243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Line 38"/>
          <p:cNvSpPr/>
          <p:nvPr/>
        </p:nvSpPr>
        <p:spPr>
          <a:xfrm>
            <a:off x="2400480" y="3624120"/>
            <a:ext cx="815760" cy="1451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Line 39"/>
          <p:cNvSpPr/>
          <p:nvPr/>
        </p:nvSpPr>
        <p:spPr>
          <a:xfrm>
            <a:off x="2416320" y="3624120"/>
            <a:ext cx="898560" cy="571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Line 40"/>
          <p:cNvSpPr/>
          <p:nvPr/>
        </p:nvSpPr>
        <p:spPr>
          <a:xfrm flipV="1">
            <a:off x="3429000" y="2693880"/>
            <a:ext cx="1257480" cy="54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Oval 41"/>
          <p:cNvSpPr/>
          <p:nvPr/>
        </p:nvSpPr>
        <p:spPr>
          <a:xfrm>
            <a:off x="1371600" y="3005280"/>
            <a:ext cx="2122560" cy="620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Oval 42"/>
          <p:cNvSpPr/>
          <p:nvPr/>
        </p:nvSpPr>
        <p:spPr>
          <a:xfrm>
            <a:off x="4540320" y="2143080"/>
            <a:ext cx="2351160" cy="7509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606480" y="873000"/>
            <a:ext cx="17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VJEŽB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79280" y="2147760"/>
            <a:ext cx="6822720" cy="4088880"/>
            <a:chOff x="179280" y="2147760"/>
            <a:chExt cx="6822720" cy="4088880"/>
          </a:xfrm>
        </p:grpSpPr>
        <p:sp>
          <p:nvSpPr>
            <p:cNvPr id="162" name="Text Box 4"/>
            <p:cNvSpPr/>
            <p:nvPr/>
          </p:nvSpPr>
          <p:spPr>
            <a:xfrm>
              <a:off x="217080" y="4548240"/>
              <a:ext cx="675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99"/>
                  </a:solidFill>
                  <a:latin typeface="Arial"/>
                </a:rPr>
                <a:t>Zbroj bodova na ljestvici stavova prema znanosti</a:t>
              </a:r>
              <a:br>
                <a:rPr sz="2400"/>
              </a:br>
              <a:r>
                <a:rPr b="0" lang="hr-HR" sz="2400" spc="-1" strike="noStrike">
                  <a:solidFill>
                    <a:srgbClr val="ffff99"/>
                  </a:solidFill>
                  <a:latin typeface="Arial"/>
                </a:rPr>
                <a:t>(najmanji mogući rezultat je 10, a najveći 50)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214200" y="298620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99"/>
                  </a:solidFill>
                  <a:latin typeface="Arial"/>
                </a:rPr>
                <a:t>Dob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216720" y="3722760"/>
              <a:ext cx="46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99"/>
                  </a:solidFill>
                  <a:latin typeface="Arial"/>
                </a:rPr>
                <a:t>Brojevi na majicama nogometaša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219240" y="5776920"/>
              <a:ext cx="67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99"/>
                  </a:solidFill>
                  <a:latin typeface="Arial"/>
                </a:rPr>
                <a:t>Doza lijeka koji se daje pacijentu (izražena u mg)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179280" y="2147760"/>
              <a:ext cx="39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99"/>
                  </a:solidFill>
                  <a:latin typeface="Arial"/>
                </a:rPr>
                <a:t>Stupanj opeklina                  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167" name="Text Box 9"/>
          <p:cNvSpPr/>
          <p:nvPr/>
        </p:nvSpPr>
        <p:spPr>
          <a:xfrm>
            <a:off x="7103880" y="2062080"/>
            <a:ext cx="18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99"/>
                </a:solidFill>
                <a:latin typeface="Arial"/>
              </a:rPr>
              <a:t>ordinaln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7089840" y="3619440"/>
            <a:ext cx="20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99"/>
                </a:solidFill>
                <a:latin typeface="Arial"/>
              </a:rPr>
              <a:t>nominaln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7103520" y="463860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99"/>
                </a:solidFill>
                <a:latin typeface="Arial"/>
              </a:rPr>
              <a:t>intervaln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7103880" y="280368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99"/>
                </a:solidFill>
                <a:latin typeface="Arial"/>
              </a:rPr>
              <a:t>omjern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7103880" y="569592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99"/>
                </a:solidFill>
                <a:latin typeface="Arial"/>
              </a:rPr>
              <a:t>omjern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437560" y="62532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99"/>
                </a:solidFill>
                <a:latin typeface="Arial"/>
              </a:rPr>
              <a:t>OBRADA PODATAKA: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73" name="Group 14"/>
          <p:cNvGrpSpPr/>
          <p:nvPr/>
        </p:nvGrpSpPr>
        <p:grpSpPr>
          <a:xfrm>
            <a:off x="3305880" y="1579680"/>
            <a:ext cx="2570400" cy="3884040"/>
            <a:chOff x="3305880" y="1579680"/>
            <a:chExt cx="2570400" cy="3884040"/>
          </a:xfrm>
        </p:grpSpPr>
        <p:sp>
          <p:nvSpPr>
            <p:cNvPr id="174" name="Text Box 7"/>
            <p:cNvSpPr/>
            <p:nvPr/>
          </p:nvSpPr>
          <p:spPr>
            <a:xfrm>
              <a:off x="4010040" y="1579680"/>
              <a:ext cx="112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600" spc="-1" strike="noStrike">
                  <a:solidFill>
                    <a:srgbClr val="ffff99"/>
                  </a:solidFill>
                  <a:latin typeface="Arial"/>
                </a:rPr>
                <a:t>Opis</a:t>
              </a:r>
              <a:endParaRPr b="0" lang="en-US" sz="36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3362400" y="3228840"/>
              <a:ext cx="241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600" spc="-1" strike="noStrike">
                  <a:solidFill>
                    <a:srgbClr val="ffff99"/>
                  </a:solidFill>
                  <a:latin typeface="Arial"/>
                </a:rPr>
                <a:t>Usporedba</a:t>
              </a:r>
              <a:endParaRPr b="0" lang="en-US" sz="36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3305880" y="4821120"/>
              <a:ext cx="257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600" spc="-1" strike="noStrike">
                  <a:solidFill>
                    <a:srgbClr val="ffff99"/>
                  </a:solidFill>
                  <a:latin typeface="Arial"/>
                </a:rPr>
                <a:t>Povezanost</a:t>
              </a:r>
              <a:endParaRPr b="0" lang="en-US" sz="36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177" name="Text Box 11"/>
          <p:cNvSpPr/>
          <p:nvPr/>
        </p:nvSpPr>
        <p:spPr>
          <a:xfrm>
            <a:off x="1737360" y="2259000"/>
            <a:ext cx="59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9999"/>
                </a:solidFill>
                <a:latin typeface="Arial"/>
              </a:rPr>
              <a:t>Kakvi su stavovi studenata medicin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9999"/>
                </a:solidFill>
                <a:latin typeface="Arial"/>
              </a:rPr>
              <a:t>prema znanosti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984600" y="3889440"/>
            <a:ext cx="717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9999"/>
                </a:solidFill>
                <a:latin typeface="Arial"/>
              </a:rPr>
              <a:t>Postoje li razlike u stavovima prem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9999"/>
                </a:solidFill>
                <a:latin typeface="Arial"/>
              </a:rPr>
              <a:t>znanosti između studenata različitih godina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333000" y="5477040"/>
            <a:ext cx="853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9999"/>
                </a:solidFill>
                <a:latin typeface="Arial"/>
              </a:rPr>
              <a:t>Postoji li povezanost između stavova prema znanosti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9999"/>
                </a:solidFill>
                <a:latin typeface="Arial"/>
              </a:rPr>
              <a:t>prosjeka ocjena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009680" y="31752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OPI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844280" y="3641760"/>
            <a:ext cx="55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Srednje vrijednosti i raspšenj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3479400" y="1522440"/>
            <a:ext cx="22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Raspodjel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3475080" y="2152800"/>
            <a:ext cx="2336760" cy="14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84" name="Group 17"/>
          <p:cNvGrpSpPr/>
          <p:nvPr/>
        </p:nvGrpSpPr>
        <p:grpSpPr>
          <a:xfrm>
            <a:off x="-169560" y="4272120"/>
            <a:ext cx="4611240" cy="2366640"/>
            <a:chOff x="-169560" y="4272120"/>
            <a:chExt cx="4611240" cy="2366640"/>
          </a:xfrm>
        </p:grpSpPr>
        <p:sp>
          <p:nvSpPr>
            <p:cNvPr id="185" name="Text Box 8"/>
            <p:cNvSpPr/>
            <p:nvPr/>
          </p:nvSpPr>
          <p:spPr>
            <a:xfrm>
              <a:off x="-169560" y="4272120"/>
              <a:ext cx="461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99"/>
                  </a:solidFill>
                  <a:latin typeface="Arial"/>
                </a:rPr>
                <a:t>Dominantna vrijednost (Mode)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  <a:p>
              <a:pPr marL="174600" indent="-1746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9999"/>
                  </a:solidFill>
                  <a:latin typeface="Arial"/>
                </a:rPr>
                <a:t>-najčešći rezultatat-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-138240" y="5035680"/>
              <a:ext cx="447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99"/>
                  </a:solidFill>
                  <a:latin typeface="Arial"/>
                </a:rPr>
                <a:t>Središnja vrijednost (Median)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  <a:p>
              <a:pPr marL="174600" indent="-1746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9999"/>
                  </a:solidFill>
                  <a:latin typeface="Arial"/>
                </a:rPr>
                <a:t>-središnji rezultatat-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0" y="5813280"/>
              <a:ext cx="3855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99"/>
                  </a:solidFill>
                  <a:latin typeface="Arial"/>
                </a:rPr>
                <a:t>Aritmetička sredina (Mean)</a:t>
              </a:r>
              <a:br>
                <a:rPr sz="2400"/>
              </a:br>
              <a:r>
                <a:rPr b="0" lang="hr-HR" sz="2400" spc="-1" strike="noStrike">
                  <a:solidFill>
                    <a:srgbClr val="ff9999"/>
                  </a:solidFill>
                  <a:latin typeface="Arial"/>
                </a:rPr>
                <a:t>-prosjek-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188" name="Group 18"/>
          <p:cNvGrpSpPr/>
          <p:nvPr/>
        </p:nvGrpSpPr>
        <p:grpSpPr>
          <a:xfrm>
            <a:off x="4418280" y="4294080"/>
            <a:ext cx="4459320" cy="2013840"/>
            <a:chOff x="4418280" y="4294080"/>
            <a:chExt cx="4459320" cy="2013840"/>
          </a:xfrm>
        </p:grpSpPr>
        <p:sp>
          <p:nvSpPr>
            <p:cNvPr id="189" name="Text Box 9"/>
            <p:cNvSpPr/>
            <p:nvPr/>
          </p:nvSpPr>
          <p:spPr>
            <a:xfrm>
              <a:off x="4502520" y="4294080"/>
              <a:ext cx="16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62080" indent="-174600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99"/>
                  </a:solidFill>
                  <a:latin typeface="Arial"/>
                </a:rPr>
                <a:t>Raspon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4418280" y="5073480"/>
              <a:ext cx="445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62080" indent="-174600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99"/>
                  </a:solidFill>
                  <a:latin typeface="Arial"/>
                </a:rPr>
                <a:t>Poluinterkvartilno raspršenje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4418640" y="5848200"/>
              <a:ext cx="352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62080" indent="-174600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99"/>
                  </a:solidFill>
                  <a:latin typeface="Arial"/>
                </a:rPr>
                <a:t>Standardna devijacija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51"/>
          <p:cNvGrpSpPr/>
          <p:nvPr/>
        </p:nvGrpSpPr>
        <p:grpSpPr>
          <a:xfrm>
            <a:off x="727200" y="1955880"/>
            <a:ext cx="3452400" cy="4023720"/>
            <a:chOff x="727200" y="1955880"/>
            <a:chExt cx="3452400" cy="4023720"/>
          </a:xfrm>
        </p:grpSpPr>
        <p:sp>
          <p:nvSpPr>
            <p:cNvPr id="193" name="Oval 19"/>
            <p:cNvSpPr/>
            <p:nvPr/>
          </p:nvSpPr>
          <p:spPr>
            <a:xfrm>
              <a:off x="1797120" y="3849120"/>
              <a:ext cx="160920" cy="21240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2054520" y="3722760"/>
              <a:ext cx="160920" cy="212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95" name="Oval 21"/>
            <p:cNvSpPr/>
            <p:nvPr/>
          </p:nvSpPr>
          <p:spPr>
            <a:xfrm>
              <a:off x="1973520" y="3509640"/>
              <a:ext cx="160920" cy="213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96" name="Oval 22"/>
            <p:cNvSpPr/>
            <p:nvPr/>
          </p:nvSpPr>
          <p:spPr>
            <a:xfrm>
              <a:off x="1731600" y="3616200"/>
              <a:ext cx="160920" cy="212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97" name="Oval 23"/>
            <p:cNvSpPr/>
            <p:nvPr/>
          </p:nvSpPr>
          <p:spPr>
            <a:xfrm>
              <a:off x="1973520" y="4042080"/>
              <a:ext cx="160920" cy="212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98" name="Oval 24"/>
            <p:cNvSpPr/>
            <p:nvPr/>
          </p:nvSpPr>
          <p:spPr>
            <a:xfrm>
              <a:off x="1650960" y="4148280"/>
              <a:ext cx="161280" cy="213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99" name="Oval 25"/>
            <p:cNvSpPr/>
            <p:nvPr/>
          </p:nvSpPr>
          <p:spPr>
            <a:xfrm>
              <a:off x="1489680" y="3509640"/>
              <a:ext cx="160920" cy="213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00" name="Oval 26"/>
            <p:cNvSpPr/>
            <p:nvPr/>
          </p:nvSpPr>
          <p:spPr>
            <a:xfrm>
              <a:off x="1570680" y="4254840"/>
              <a:ext cx="160920" cy="212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01" name="Oval 27"/>
            <p:cNvSpPr/>
            <p:nvPr/>
          </p:nvSpPr>
          <p:spPr>
            <a:xfrm>
              <a:off x="1973520" y="4254840"/>
              <a:ext cx="160920" cy="212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02" name="Oval 28"/>
            <p:cNvSpPr/>
            <p:nvPr/>
          </p:nvSpPr>
          <p:spPr>
            <a:xfrm>
              <a:off x="1812600" y="4254840"/>
              <a:ext cx="160920" cy="212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03" name="Oval 29"/>
            <p:cNvSpPr/>
            <p:nvPr/>
          </p:nvSpPr>
          <p:spPr>
            <a:xfrm>
              <a:off x="2134800" y="4042080"/>
              <a:ext cx="161280" cy="212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04" name="Oval 30"/>
            <p:cNvSpPr/>
            <p:nvPr/>
          </p:nvSpPr>
          <p:spPr>
            <a:xfrm>
              <a:off x="1570680" y="3828960"/>
              <a:ext cx="160920" cy="213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05" name="Line 43"/>
            <p:cNvSpPr/>
            <p:nvPr/>
          </p:nvSpPr>
          <p:spPr>
            <a:xfrm>
              <a:off x="730440" y="1955880"/>
              <a:ext cx="0" cy="402372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06" name="Line 45"/>
            <p:cNvSpPr/>
            <p:nvPr/>
          </p:nvSpPr>
          <p:spPr>
            <a:xfrm flipH="1">
              <a:off x="727200" y="5979600"/>
              <a:ext cx="345240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207" name="Group 50"/>
          <p:cNvGrpSpPr/>
          <p:nvPr/>
        </p:nvGrpSpPr>
        <p:grpSpPr>
          <a:xfrm>
            <a:off x="4970160" y="1979640"/>
            <a:ext cx="3819240" cy="3999960"/>
            <a:chOff x="4970160" y="1979640"/>
            <a:chExt cx="3819240" cy="3999960"/>
          </a:xfrm>
        </p:grpSpPr>
        <p:sp>
          <p:nvSpPr>
            <p:cNvPr id="208" name="Oval 32"/>
            <p:cNvSpPr/>
            <p:nvPr/>
          </p:nvSpPr>
          <p:spPr>
            <a:xfrm>
              <a:off x="6419520" y="3868560"/>
              <a:ext cx="191520" cy="21564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09" name="Oval 33"/>
            <p:cNvSpPr/>
            <p:nvPr/>
          </p:nvSpPr>
          <p:spPr>
            <a:xfrm>
              <a:off x="6477480" y="3382560"/>
              <a:ext cx="191520" cy="215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10" name="Oval 34"/>
            <p:cNvSpPr/>
            <p:nvPr/>
          </p:nvSpPr>
          <p:spPr>
            <a:xfrm>
              <a:off x="7436520" y="3706560"/>
              <a:ext cx="191880" cy="215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11" name="Oval 35"/>
            <p:cNvSpPr/>
            <p:nvPr/>
          </p:nvSpPr>
          <p:spPr>
            <a:xfrm>
              <a:off x="6189480" y="4569840"/>
              <a:ext cx="191520" cy="216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12" name="Oval 36"/>
            <p:cNvSpPr/>
            <p:nvPr/>
          </p:nvSpPr>
          <p:spPr>
            <a:xfrm>
              <a:off x="6669000" y="4785840"/>
              <a:ext cx="191520" cy="215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13" name="Oval 37"/>
            <p:cNvSpPr/>
            <p:nvPr/>
          </p:nvSpPr>
          <p:spPr>
            <a:xfrm>
              <a:off x="7628760" y="5433480"/>
              <a:ext cx="191520" cy="215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14" name="Oval 38"/>
            <p:cNvSpPr/>
            <p:nvPr/>
          </p:nvSpPr>
          <p:spPr>
            <a:xfrm>
              <a:off x="5517720" y="4354200"/>
              <a:ext cx="191520" cy="215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15" name="Oval 39"/>
            <p:cNvSpPr/>
            <p:nvPr/>
          </p:nvSpPr>
          <p:spPr>
            <a:xfrm>
              <a:off x="6189480" y="2087640"/>
              <a:ext cx="191520" cy="215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16" name="Oval 40"/>
            <p:cNvSpPr/>
            <p:nvPr/>
          </p:nvSpPr>
          <p:spPr>
            <a:xfrm>
              <a:off x="5517720" y="3274560"/>
              <a:ext cx="191520" cy="216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17" name="Oval 41"/>
            <p:cNvSpPr/>
            <p:nvPr/>
          </p:nvSpPr>
          <p:spPr>
            <a:xfrm>
              <a:off x="7532640" y="2950920"/>
              <a:ext cx="191520" cy="216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18" name="Oval 42"/>
            <p:cNvSpPr/>
            <p:nvPr/>
          </p:nvSpPr>
          <p:spPr>
            <a:xfrm>
              <a:off x="7820280" y="4462200"/>
              <a:ext cx="191520" cy="215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19" name="Line 44"/>
            <p:cNvSpPr/>
            <p:nvPr/>
          </p:nvSpPr>
          <p:spPr>
            <a:xfrm>
              <a:off x="4976280" y="1979640"/>
              <a:ext cx="0" cy="399528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20" name="Line 47"/>
            <p:cNvSpPr/>
            <p:nvPr/>
          </p:nvSpPr>
          <p:spPr>
            <a:xfrm flipH="1">
              <a:off x="4970160" y="5979600"/>
              <a:ext cx="381924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221" name="Text Box 49"/>
          <p:cNvSpPr/>
          <p:nvPr/>
        </p:nvSpPr>
        <p:spPr>
          <a:xfrm>
            <a:off x="1641600" y="295200"/>
            <a:ext cx="58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99"/>
                </a:solidFill>
                <a:latin typeface="Arial"/>
              </a:rPr>
              <a:t>SREDIŠNJE VRIJEDNOSTI</a:t>
            </a:r>
            <a:br>
              <a:rPr sz="3600"/>
            </a:br>
            <a:r>
              <a:rPr b="0" lang="hr-HR" sz="3600" spc="-1" strike="noStrike">
                <a:solidFill>
                  <a:srgbClr val="ffff99"/>
                </a:solidFill>
                <a:latin typeface="Arial"/>
              </a:rPr>
              <a:t>I RASPRŠENJA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269280" y="440856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1+2+2+2+2+3+3+4+8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331200" y="16207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1+2+2+3+3+3+4+4+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24" name="Group 31"/>
          <p:cNvGrpSpPr/>
          <p:nvPr/>
        </p:nvGrpSpPr>
        <p:grpSpPr>
          <a:xfrm>
            <a:off x="426960" y="1781280"/>
            <a:ext cx="3736800" cy="797760"/>
            <a:chOff x="426960" y="1781280"/>
            <a:chExt cx="3736800" cy="797760"/>
          </a:xfrm>
        </p:grpSpPr>
        <p:sp>
          <p:nvSpPr>
            <p:cNvPr id="225" name="Line 13"/>
            <p:cNvSpPr/>
            <p:nvPr/>
          </p:nvSpPr>
          <p:spPr>
            <a:xfrm>
              <a:off x="426960" y="2082960"/>
              <a:ext cx="296064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26" name="Text Box 14"/>
            <p:cNvSpPr/>
            <p:nvPr/>
          </p:nvSpPr>
          <p:spPr>
            <a:xfrm>
              <a:off x="1738800" y="2119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99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27" name="Text Box 16"/>
            <p:cNvSpPr/>
            <p:nvPr/>
          </p:nvSpPr>
          <p:spPr>
            <a:xfrm>
              <a:off x="3407040" y="1781280"/>
              <a:ext cx="7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99"/>
                  </a:solidFill>
                  <a:latin typeface="Arial"/>
                </a:rPr>
                <a:t>= 3</a:t>
              </a: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228" name="Group 32"/>
          <p:cNvGrpSpPr/>
          <p:nvPr/>
        </p:nvGrpSpPr>
        <p:grpSpPr>
          <a:xfrm>
            <a:off x="371520" y="4560840"/>
            <a:ext cx="3749400" cy="853200"/>
            <a:chOff x="371520" y="4560840"/>
            <a:chExt cx="3749400" cy="853200"/>
          </a:xfrm>
        </p:grpSpPr>
        <p:grpSp>
          <p:nvGrpSpPr>
            <p:cNvPr id="229" name="Group 20"/>
            <p:cNvGrpSpPr/>
            <p:nvPr/>
          </p:nvGrpSpPr>
          <p:grpSpPr>
            <a:xfrm>
              <a:off x="371520" y="4879800"/>
              <a:ext cx="2932200" cy="534240"/>
              <a:chOff x="371520" y="4879800"/>
              <a:chExt cx="2932200" cy="534240"/>
            </a:xfrm>
          </p:grpSpPr>
          <p:sp>
            <p:nvSpPr>
              <p:cNvPr id="230" name="Line 11"/>
              <p:cNvSpPr/>
              <p:nvPr/>
            </p:nvSpPr>
            <p:spPr>
              <a:xfrm>
                <a:off x="371520" y="4879800"/>
                <a:ext cx="2932200" cy="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99"/>
                  </a:solidFill>
                  <a:latin typeface="Arial"/>
                </a:endParaRPr>
              </a:p>
            </p:txBody>
          </p:sp>
          <p:sp>
            <p:nvSpPr>
              <p:cNvPr id="231" name="Text Box 15"/>
              <p:cNvSpPr/>
              <p:nvPr/>
            </p:nvSpPr>
            <p:spPr>
              <a:xfrm>
                <a:off x="1776960" y="4954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99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ffff99"/>
                  </a:solidFill>
                  <a:latin typeface="Arial"/>
                </a:endParaRPr>
              </a:p>
            </p:txBody>
          </p:sp>
        </p:grpSp>
        <p:sp>
          <p:nvSpPr>
            <p:cNvPr id="232" name="Text Box 17"/>
            <p:cNvSpPr/>
            <p:nvPr/>
          </p:nvSpPr>
          <p:spPr>
            <a:xfrm>
              <a:off x="3364200" y="4560840"/>
              <a:ext cx="7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99"/>
                  </a:solidFill>
                  <a:latin typeface="Arial"/>
                </a:rPr>
                <a:t>= 3</a:t>
              </a: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233" name="Text Box 21"/>
          <p:cNvSpPr/>
          <p:nvPr/>
        </p:nvSpPr>
        <p:spPr>
          <a:xfrm>
            <a:off x="1388880" y="268272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M=C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Oval 23"/>
          <p:cNvSpPr/>
          <p:nvPr/>
        </p:nvSpPr>
        <p:spPr>
          <a:xfrm>
            <a:off x="1665360" y="4410000"/>
            <a:ext cx="331560" cy="444600"/>
          </a:xfrm>
          <a:prstGeom prst="ellipse">
            <a:avLst/>
          </a:prstGeom>
          <a:noFill/>
          <a:ln w="7632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35" name="Group 36"/>
          <p:cNvGrpSpPr/>
          <p:nvPr/>
        </p:nvGrpSpPr>
        <p:grpSpPr>
          <a:xfrm>
            <a:off x="4608360" y="1109520"/>
            <a:ext cx="4535640" cy="5370480"/>
            <a:chOff x="4608360" y="1109520"/>
            <a:chExt cx="4535640" cy="5370480"/>
          </a:xfrm>
        </p:grpSpPr>
        <p:graphicFrame>
          <p:nvGraphicFramePr>
            <p:cNvPr id="236" name="Object 8"/>
            <p:cNvGraphicFramePr/>
            <p:nvPr/>
          </p:nvGraphicFramePr>
          <p:xfrm>
            <a:off x="4608360" y="3875040"/>
            <a:ext cx="4535640" cy="26049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7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08360" y="3875040"/>
                      <a:ext cx="4535640" cy="26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Object 10"/>
            <p:cNvGraphicFramePr/>
            <p:nvPr/>
          </p:nvGraphicFramePr>
          <p:xfrm>
            <a:off x="4608360" y="1109520"/>
            <a:ext cx="4535640" cy="25956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39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08360" y="1109520"/>
                      <a:ext cx="4535640" cy="25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0" name="Group 35"/>
          <p:cNvGrpSpPr/>
          <p:nvPr/>
        </p:nvGrpSpPr>
        <p:grpSpPr>
          <a:xfrm>
            <a:off x="5637240" y="1476360"/>
            <a:ext cx="1649520" cy="4367160"/>
            <a:chOff x="5637240" y="1476360"/>
            <a:chExt cx="1649520" cy="4367160"/>
          </a:xfrm>
        </p:grpSpPr>
        <p:sp>
          <p:nvSpPr>
            <p:cNvPr id="241" name="Rectangle 24"/>
            <p:cNvSpPr/>
            <p:nvPr/>
          </p:nvSpPr>
          <p:spPr>
            <a:xfrm>
              <a:off x="5637240" y="4438800"/>
              <a:ext cx="825480" cy="14047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42" name="Rectangle 25"/>
            <p:cNvSpPr/>
            <p:nvPr/>
          </p:nvSpPr>
          <p:spPr>
            <a:xfrm>
              <a:off x="6462720" y="1476360"/>
              <a:ext cx="824040" cy="161604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243" name="Text Box 28"/>
          <p:cNvSpPr/>
          <p:nvPr/>
        </p:nvSpPr>
        <p:spPr>
          <a:xfrm>
            <a:off x="1876320" y="312840"/>
            <a:ext cx="54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99"/>
                </a:solidFill>
                <a:latin typeface="Arial"/>
              </a:rPr>
              <a:t>SREDNJE VRIJEDNOSTI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44" name="Group 37"/>
          <p:cNvGrpSpPr/>
          <p:nvPr/>
        </p:nvGrpSpPr>
        <p:grpSpPr>
          <a:xfrm>
            <a:off x="614520" y="5705640"/>
            <a:ext cx="2606400" cy="581400"/>
            <a:chOff x="614520" y="5705640"/>
            <a:chExt cx="2606400" cy="581400"/>
          </a:xfrm>
        </p:grpSpPr>
        <p:sp>
          <p:nvSpPr>
            <p:cNvPr id="245" name="Text Box 22"/>
            <p:cNvSpPr/>
            <p:nvPr/>
          </p:nvSpPr>
          <p:spPr>
            <a:xfrm>
              <a:off x="2282760" y="5705640"/>
              <a:ext cx="93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99"/>
                  </a:solidFill>
                  <a:latin typeface="Arial"/>
                  <a:ea typeface="Arial"/>
                </a:rPr>
                <a:t>C=2</a:t>
              </a: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46" name="Text Box 29"/>
            <p:cNvSpPr/>
            <p:nvPr/>
          </p:nvSpPr>
          <p:spPr>
            <a:xfrm>
              <a:off x="614520" y="5705640"/>
              <a:ext cx="98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99"/>
                  </a:solidFill>
                  <a:latin typeface="Arial"/>
                  <a:ea typeface="Arial"/>
                </a:rPr>
                <a:t>M=3</a:t>
              </a: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247" name="Oval 30"/>
          <p:cNvSpPr/>
          <p:nvPr/>
        </p:nvSpPr>
        <p:spPr>
          <a:xfrm>
            <a:off x="1730520" y="1617840"/>
            <a:ext cx="331560" cy="444240"/>
          </a:xfrm>
          <a:prstGeom prst="ellipse">
            <a:avLst/>
          </a:prstGeom>
          <a:noFill/>
          <a:ln w="7632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8"/>
          <p:cNvSpPr/>
          <p:nvPr/>
        </p:nvSpPr>
        <p:spPr>
          <a:xfrm>
            <a:off x="2001960" y="196920"/>
            <a:ext cx="52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RASPODJELA PODATAK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49" name="Object 9"/>
          <p:cNvGraphicFramePr/>
          <p:nvPr/>
        </p:nvGraphicFramePr>
        <p:xfrm>
          <a:off x="4768920" y="1486080"/>
          <a:ext cx="4375080" cy="31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8920" y="1486080"/>
                    <a:ext cx="437508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0"/>
          <p:cNvGraphicFramePr/>
          <p:nvPr/>
        </p:nvGraphicFramePr>
        <p:xfrm>
          <a:off x="0" y="1486080"/>
          <a:ext cx="4702320" cy="3138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6080"/>
                    <a:ext cx="470232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Text Box 11"/>
          <p:cNvSpPr/>
          <p:nvPr/>
        </p:nvSpPr>
        <p:spPr>
          <a:xfrm>
            <a:off x="1879560" y="524520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C=4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6494400" y="524520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C=4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7"/>
          <p:cNvSpPr/>
          <p:nvPr/>
        </p:nvSpPr>
        <p:spPr>
          <a:xfrm>
            <a:off x="484200" y="7714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VRIJEDNOSTI KOJE SE JAKO RAZLIKUJU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1"/>
          <a:stretch/>
        </p:blipFill>
        <p:spPr>
          <a:xfrm>
            <a:off x="169920" y="2070000"/>
            <a:ext cx="5486400" cy="4114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57" name="Oval 12"/>
          <p:cNvSpPr/>
          <p:nvPr/>
        </p:nvSpPr>
        <p:spPr>
          <a:xfrm>
            <a:off x="4630680" y="3564000"/>
            <a:ext cx="486000" cy="522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58" name="Group 17"/>
          <p:cNvGrpSpPr/>
          <p:nvPr/>
        </p:nvGrpSpPr>
        <p:grpSpPr>
          <a:xfrm>
            <a:off x="4998960" y="2239920"/>
            <a:ext cx="2352600" cy="1363320"/>
            <a:chOff x="4998960" y="2239920"/>
            <a:chExt cx="2352600" cy="1363320"/>
          </a:xfrm>
        </p:grpSpPr>
        <p:sp>
          <p:nvSpPr>
            <p:cNvPr id="259" name="Line 13"/>
            <p:cNvSpPr/>
            <p:nvPr/>
          </p:nvSpPr>
          <p:spPr>
            <a:xfrm flipV="1">
              <a:off x="4998960" y="2979360"/>
              <a:ext cx="1268280" cy="623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60" name="Text Box 14"/>
            <p:cNvSpPr/>
            <p:nvPr/>
          </p:nvSpPr>
          <p:spPr>
            <a:xfrm>
              <a:off x="6349680" y="245124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99"/>
                  </a:solidFill>
                  <a:latin typeface="Arial"/>
                </a:rPr>
                <a:t>151</a:t>
              </a: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61" name="Oval 16"/>
            <p:cNvSpPr/>
            <p:nvPr/>
          </p:nvSpPr>
          <p:spPr>
            <a:xfrm>
              <a:off x="6211800" y="2239920"/>
              <a:ext cx="1139760" cy="100656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262" name="Text Box 18"/>
          <p:cNvSpPr/>
          <p:nvPr/>
        </p:nvSpPr>
        <p:spPr>
          <a:xfrm>
            <a:off x="5756400" y="3394080"/>
            <a:ext cx="3387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Pažnja! Možda je </a:t>
            </a:r>
            <a:r>
              <a:rPr b="0" lang="hr-HR" sz="3200" spc="-1" strike="noStrike">
                <a:solidFill>
                  <a:srgbClr val="ff9999"/>
                </a:solidFill>
                <a:latin typeface="Arial"/>
              </a:rPr>
              <a:t>pogrješka</a:t>
            </a: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, a možda </a:t>
            </a:r>
            <a:r>
              <a:rPr b="0" lang="hr-HR" sz="3200" spc="-1" strike="noStrike">
                <a:solidFill>
                  <a:srgbClr val="ff9999"/>
                </a:solidFill>
                <a:latin typeface="Arial"/>
              </a:rPr>
              <a:t>neistražena pojava!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2965320" y="27417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64" name="Picture 15" descr="Normalna"/>
          <p:cNvPicPr/>
          <p:nvPr/>
        </p:nvPicPr>
        <p:blipFill>
          <a:blip r:embed="rId1"/>
          <a:stretch/>
        </p:blipFill>
        <p:spPr>
          <a:xfrm>
            <a:off x="174600" y="760320"/>
            <a:ext cx="8794800" cy="55674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6"/>
          <p:cNvSpPr/>
          <p:nvPr/>
        </p:nvSpPr>
        <p:spPr>
          <a:xfrm>
            <a:off x="1693800" y="5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Text Box 18"/>
          <p:cNvSpPr/>
          <p:nvPr/>
        </p:nvSpPr>
        <p:spPr>
          <a:xfrm>
            <a:off x="1925280" y="182520"/>
            <a:ext cx="52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NORMALNA RASPODJEL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5427720" y="1930320"/>
            <a:ext cx="348300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99"/>
                </a:solidFill>
                <a:latin typeface="Arial"/>
              </a:rPr>
              <a:t>Testiranje normaliteta raspodjele: </a:t>
            </a:r>
            <a:br>
              <a:rPr sz="1600"/>
            </a:br>
            <a:r>
              <a:rPr b="0" lang="hr-HR" sz="1600" spc="-1" strike="noStrike">
                <a:solidFill>
                  <a:srgbClr val="ffff99"/>
                </a:solidFill>
                <a:latin typeface="Arial"/>
              </a:rPr>
              <a:t>Kolmogorov-Smirnov test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3697920" y="627840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99"/>
                </a:solidFill>
                <a:latin typeface="Arial"/>
              </a:rPr>
              <a:t>parametr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965320" y="27417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693800" y="5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504520" y="557280"/>
            <a:ext cx="44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DRUGE RASPODJEL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2946240" y="1547640"/>
            <a:ext cx="37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Asimetrična udesn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73" name="Picture 11" descr="Asimetrije"/>
          <p:cNvPicPr/>
          <p:nvPr/>
        </p:nvPicPr>
        <p:blipFill>
          <a:blip r:embed="rId1"/>
          <a:stretch/>
        </p:blipFill>
        <p:spPr>
          <a:xfrm>
            <a:off x="0" y="1262160"/>
            <a:ext cx="2571840" cy="55944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2"/>
          <p:cNvSpPr/>
          <p:nvPr/>
        </p:nvSpPr>
        <p:spPr>
          <a:xfrm>
            <a:off x="2947320" y="2513160"/>
            <a:ext cx="35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Asimetrična ulijev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2946960" y="360828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Stožast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2947680" y="480384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Spljošten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2948040" y="58546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Bimodaln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556080" y="1311120"/>
            <a:ext cx="450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99"/>
                </a:solidFill>
                <a:latin typeface="Arial"/>
              </a:rPr>
              <a:t>Aritmetička sredina i standardna devijacij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513160" y="4100400"/>
            <a:ext cx="663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99"/>
                </a:solidFill>
                <a:latin typeface="Arial"/>
              </a:rPr>
              <a:t>Središnja/dominantna vrijednos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99"/>
                </a:solidFill>
                <a:latin typeface="Arial"/>
              </a:rPr>
              <a:t>i interkvartilno raspršenje/totalni rasp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0" name="Picture 4" descr="Asimetrije"/>
          <p:cNvPicPr/>
          <p:nvPr/>
        </p:nvPicPr>
        <p:blipFill>
          <a:blip r:embed="rId1"/>
          <a:stretch/>
        </p:blipFill>
        <p:spPr>
          <a:xfrm>
            <a:off x="0" y="3855960"/>
            <a:ext cx="2900520" cy="2309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Normalna_boja"/>
          <p:cNvPicPr/>
          <p:nvPr/>
        </p:nvPicPr>
        <p:blipFill>
          <a:blip r:embed="rId2"/>
          <a:stretch/>
        </p:blipFill>
        <p:spPr>
          <a:xfrm>
            <a:off x="0" y="1260360"/>
            <a:ext cx="2894040" cy="17035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7"/>
          <p:cNvSpPr/>
          <p:nvPr/>
        </p:nvSpPr>
        <p:spPr>
          <a:xfrm>
            <a:off x="3556080" y="2481120"/>
            <a:ext cx="45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9999"/>
                </a:solidFill>
                <a:latin typeface="Arial"/>
              </a:rPr>
              <a:t>Parametrijska statistik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3556080" y="5460840"/>
            <a:ext cx="45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9999"/>
                </a:solidFill>
                <a:latin typeface="Arial"/>
              </a:rPr>
              <a:t>Neparametrijska statistik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5"/>
          <p:cNvGrpSpPr/>
          <p:nvPr/>
        </p:nvGrpSpPr>
        <p:grpSpPr>
          <a:xfrm>
            <a:off x="1681200" y="3770280"/>
            <a:ext cx="7462800" cy="2548080"/>
            <a:chOff x="1681200" y="3770280"/>
            <a:chExt cx="7462800" cy="2548080"/>
          </a:xfrm>
        </p:grpSpPr>
        <p:sp>
          <p:nvSpPr>
            <p:cNvPr id="64" name="AutoShape 14"/>
            <p:cNvSpPr/>
            <p:nvPr/>
          </p:nvSpPr>
          <p:spPr>
            <a:xfrm>
              <a:off x="2519280" y="4605480"/>
              <a:ext cx="3652920" cy="877680"/>
            </a:xfrm>
            <a:prstGeom prst="rightArrow">
              <a:avLst>
                <a:gd name="adj1" fmla="val 50000"/>
                <a:gd name="adj2" fmla="val 104050"/>
              </a:avLst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1681200" y="4694400"/>
              <a:ext cx="1436760" cy="7016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99"/>
                  </a:solidFill>
                  <a:latin typeface="Arial"/>
                </a:rPr>
                <a:t>uzorak</a:t>
              </a: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6138720" y="3770280"/>
              <a:ext cx="3005280" cy="2548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99"/>
                  </a:solidFill>
                  <a:latin typeface="Arial"/>
                </a:rPr>
                <a:t>populacija</a:t>
              </a: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67" name="Text Box 2"/>
          <p:cNvSpPr/>
          <p:nvPr/>
        </p:nvSpPr>
        <p:spPr>
          <a:xfrm>
            <a:off x="2590560" y="388800"/>
            <a:ext cx="40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CILJ ISTRAŽIVANJ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884040" y="142236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Opisat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725280" y="231948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Objasnit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568680" y="32004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Predvidjet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336480" y="4255920"/>
            <a:ext cx="250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99"/>
                </a:solidFill>
                <a:uFillTx/>
                <a:latin typeface="Arial"/>
              </a:rPr>
              <a:t>Oruđe</a:t>
            </a: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:</a:t>
            </a:r>
            <a:br>
              <a:rPr sz="3200"/>
            </a:b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STATISTIK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RASPON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POUZDA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točnost ocjene učinka liječenja procjenjuje se s pomoću raspona pouzdanosti (</a:t>
            </a:r>
            <a:r>
              <a:rPr b="0" lang="hr-HR" sz="2400" spc="-1" strike="noStrike">
                <a:solidFill>
                  <a:srgbClr val="ff9999"/>
                </a:solidFill>
                <a:latin typeface="Arial"/>
              </a:rPr>
              <a:t>CI</a:t>
            </a: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, prema engl. </a:t>
            </a:r>
            <a:r>
              <a:rPr b="0" lang="hr-HR" sz="2400" spc="-1" strike="noStrike">
                <a:solidFill>
                  <a:srgbClr val="ff9999"/>
                </a:solidFill>
                <a:latin typeface="Arial"/>
              </a:rPr>
              <a:t>confidence</a:t>
            </a: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9999"/>
                </a:solidFill>
                <a:latin typeface="Arial"/>
              </a:rPr>
              <a:t>interval</a:t>
            </a: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); s kolikom se sigurnošću rezultati dobiveni na uzorku bolesnika mogu primijeniti na cijelu popula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99"/>
                </a:solidFill>
                <a:latin typeface="Arial"/>
              </a:rPr>
              <a:t>95% confidence interval (95%CI);</a:t>
            </a: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 s 95%-tnom sigurnošću možemo reći da se rezultati određenog istraživanja mogu generalizirati na cijelu populaciju, odnosno da srednja vrijednost mjerenoga parametra uzorka s 95% sigurnosti odgovara (u rasponu CI) srednjoj vrijednosti u popula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4"/>
          <p:cNvSpPr/>
          <p:nvPr/>
        </p:nvSpPr>
        <p:spPr>
          <a:xfrm>
            <a:off x="3276720" y="3357720"/>
            <a:ext cx="215640" cy="214200"/>
          </a:xfrm>
          <a:prstGeom prst="rect">
            <a:avLst/>
          </a:prstGeom>
          <a:solidFill>
            <a:srgbClr val="7f7f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Line 3"/>
          <p:cNvSpPr/>
          <p:nvPr/>
        </p:nvSpPr>
        <p:spPr>
          <a:xfrm>
            <a:off x="1403280" y="3716280"/>
            <a:ext cx="5256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Line 4"/>
          <p:cNvSpPr/>
          <p:nvPr/>
        </p:nvSpPr>
        <p:spPr>
          <a:xfrm>
            <a:off x="2124000" y="3645000"/>
            <a:ext cx="0" cy="21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3276720" y="3645000"/>
            <a:ext cx="0" cy="21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3492360" y="3645000"/>
            <a:ext cx="0" cy="21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3924360" y="3645000"/>
            <a:ext cx="0" cy="21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2" name="Line 8"/>
          <p:cNvSpPr/>
          <p:nvPr/>
        </p:nvSpPr>
        <p:spPr>
          <a:xfrm>
            <a:off x="4932360" y="3645000"/>
            <a:ext cx="0" cy="21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3" name="Line 9"/>
          <p:cNvSpPr/>
          <p:nvPr/>
        </p:nvSpPr>
        <p:spPr>
          <a:xfrm>
            <a:off x="5796000" y="3645000"/>
            <a:ext cx="0" cy="21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1908000" y="3933720"/>
            <a:ext cx="48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hr-HR" sz="1200" spc="-1" strike="noStrike">
                <a:solidFill>
                  <a:srgbClr val="ffff99"/>
                </a:solidFill>
                <a:latin typeface="Arial"/>
              </a:rPr>
              <a:t>83                   103 107     115                  133              147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Line 11"/>
          <p:cNvSpPr/>
          <p:nvPr/>
        </p:nvSpPr>
        <p:spPr>
          <a:xfrm>
            <a:off x="2124000" y="3357720"/>
            <a:ext cx="0" cy="21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" name="Line 12"/>
          <p:cNvSpPr/>
          <p:nvPr/>
        </p:nvSpPr>
        <p:spPr>
          <a:xfrm>
            <a:off x="3492360" y="3357720"/>
            <a:ext cx="0" cy="21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Line 13"/>
          <p:cNvSpPr/>
          <p:nvPr/>
        </p:nvSpPr>
        <p:spPr>
          <a:xfrm>
            <a:off x="2124000" y="3357720"/>
            <a:ext cx="13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2409840" y="306864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99"/>
                </a:solidFill>
                <a:latin typeface="Arial"/>
              </a:rPr>
              <a:t>83 – 107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Line 15"/>
          <p:cNvSpPr/>
          <p:nvPr/>
        </p:nvSpPr>
        <p:spPr>
          <a:xfrm>
            <a:off x="3276720" y="2924280"/>
            <a:ext cx="0" cy="64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3924360" y="2924280"/>
            <a:ext cx="0" cy="64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1" name="Line 17"/>
          <p:cNvSpPr/>
          <p:nvPr/>
        </p:nvSpPr>
        <p:spPr>
          <a:xfrm>
            <a:off x="3276720" y="2924280"/>
            <a:ext cx="64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Text Box 18"/>
          <p:cNvSpPr/>
          <p:nvPr/>
        </p:nvSpPr>
        <p:spPr>
          <a:xfrm>
            <a:off x="3201120" y="263700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99"/>
                </a:solidFill>
                <a:latin typeface="Arial"/>
              </a:rPr>
              <a:t>103 – 115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Line 19"/>
          <p:cNvSpPr/>
          <p:nvPr/>
        </p:nvSpPr>
        <p:spPr>
          <a:xfrm>
            <a:off x="4932360" y="3357720"/>
            <a:ext cx="0" cy="21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Line 20"/>
          <p:cNvSpPr/>
          <p:nvPr/>
        </p:nvSpPr>
        <p:spPr>
          <a:xfrm>
            <a:off x="5796000" y="3357720"/>
            <a:ext cx="0" cy="21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>
            <a:off x="4932360" y="335772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4920480" y="30067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99"/>
                </a:solidFill>
                <a:latin typeface="Arial"/>
              </a:rPr>
              <a:t>133 – 147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ČITANJE STATISTIČKE ZNAČAJNOSTI RAZLIKE VIŠE (IZMJERENIH) PARAMETARA S POMOĆU 95% RASPONA POUZDA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26680" y="4436640"/>
            <a:ext cx="8379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Tumačenje: usporedite prvi (s lijeva) i drugi 95% raspon pouzdanosti (95% CI) - kada se preklapa viša granica raspona pouzdanosti manjega parametra (prvi CI, 107) s nižom granicom višega parametra  (drugi CI, 103) - nema statistički značajne razlike (prvoga i drugoga parametr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Kada se rasponi pouzdanosti ne preklapaju (drugi CI, 115 i treći CI, 133) postoji značajna razlika (drugoga i trećega parametra) (P&lt;0,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Uočite da su i prvi i treći parametar također statistički značajno različiti (107 vs. 13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9"/>
          <p:cNvSpPr/>
          <p:nvPr/>
        </p:nvSpPr>
        <p:spPr>
          <a:xfrm>
            <a:off x="633960" y="17460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IZBOR ODGOVARAJUĆEG STATISTIČKOG POSTUPK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10" name="Picture 12" descr="stat_testovi"/>
          <p:cNvPicPr/>
          <p:nvPr/>
        </p:nvPicPr>
        <p:blipFill>
          <a:blip r:embed="rId1"/>
          <a:stretch/>
        </p:blipFill>
        <p:spPr>
          <a:xfrm>
            <a:off x="0" y="741240"/>
            <a:ext cx="914400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874440" y="1297080"/>
            <a:ext cx="758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p&lt;0.05</a:t>
            </a: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 – 95% sigurnosti da dobivena</a:t>
            </a:r>
            <a:br>
              <a:rPr sz="3200"/>
            </a:b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razlika/povezanost nije posljedica slučaj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853920" y="2711520"/>
            <a:ext cx="77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p&lt;0.01</a:t>
            </a: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 – 99% sigurnosti da dobivena</a:t>
            </a:r>
            <a:br>
              <a:rPr sz="3200"/>
            </a:b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razlika/povezanost nije posljedica slučaja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24320" y="4341960"/>
            <a:ext cx="8014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3300"/>
                </a:solidFill>
                <a:uFillTx/>
                <a:latin typeface="Arial"/>
              </a:rPr>
              <a:t>PRIKAZ p-vrijednosti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– tri decimalna mjest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Npr. </a:t>
            </a: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p=0.024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p=0.007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p&lt;0.001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836280" y="306360"/>
            <a:ext cx="77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ŠTO ZNAČI “STATISTIČKI ZNAČAJNO”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5"/>
          <p:cNvSpPr/>
          <p:nvPr/>
        </p:nvSpPr>
        <p:spPr>
          <a:xfrm>
            <a:off x="3604320" y="7491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PRIMJE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313640" y="1662120"/>
            <a:ext cx="646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Rezultati randomiziranog kontroliranog pokusa</a:t>
            </a:r>
            <a:br>
              <a:rPr sz="2400"/>
            </a:b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pokazuju da je novi lijek u pokusnoj skupini</a:t>
            </a:r>
            <a:br>
              <a:rPr sz="2400"/>
            </a:b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prosječno smanjio dijastolički tlak</a:t>
            </a:r>
            <a:br>
              <a:rPr sz="2400"/>
            </a:b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s 99 mmHg na 96 mmHg, p&lt;0.001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444680" y="3413160"/>
            <a:ext cx="64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99"/>
                </a:solidFill>
                <a:latin typeface="Arial"/>
              </a:rPr>
              <a:t>Statistički značajno, ali ne i klinički!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3"/>
          <p:cNvSpPr/>
          <p:nvPr/>
        </p:nvSpPr>
        <p:spPr>
          <a:xfrm>
            <a:off x="744840" y="5200560"/>
            <a:ext cx="768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99"/>
                </a:solidFill>
                <a:latin typeface="Arial"/>
              </a:rPr>
              <a:t>Slušanje kolegija utječe na stvaranje pozitivnijih</a:t>
            </a:r>
            <a:br>
              <a:rPr sz="2800"/>
            </a:br>
            <a:r>
              <a:rPr b="0" lang="hr-HR" sz="2800" spc="-1" strike="noStrike">
                <a:solidFill>
                  <a:srgbClr val="ffff99"/>
                </a:solidFill>
                <a:latin typeface="Arial"/>
              </a:rPr>
              <a:t>stavova prema znanosti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744840" y="5200560"/>
            <a:ext cx="768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3300"/>
                </a:solidFill>
                <a:latin typeface="Arial"/>
              </a:rPr>
              <a:t>Slušanje kolegija utječe na stvaranje pozitivnijih</a:t>
            </a:r>
            <a:br>
              <a:rPr sz="2800"/>
            </a:br>
            <a:r>
              <a:rPr b="0" lang="hr-HR" sz="2800" spc="-1" strike="noStrike">
                <a:solidFill>
                  <a:srgbClr val="ff3300"/>
                </a:solidFill>
                <a:latin typeface="Arial"/>
              </a:rPr>
              <a:t>stavova prema znanosti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320" name="Group 11"/>
          <p:cNvGrpSpPr/>
          <p:nvPr/>
        </p:nvGrpSpPr>
        <p:grpSpPr>
          <a:xfrm>
            <a:off x="828720" y="5095440"/>
            <a:ext cx="7794720" cy="1049400"/>
            <a:chOff x="828720" y="5095440"/>
            <a:chExt cx="7794720" cy="1049400"/>
          </a:xfrm>
        </p:grpSpPr>
        <p:sp>
          <p:nvSpPr>
            <p:cNvPr id="321" name="Line 9"/>
            <p:cNvSpPr/>
            <p:nvPr/>
          </p:nvSpPr>
          <p:spPr>
            <a:xfrm flipV="1">
              <a:off x="828720" y="5095440"/>
              <a:ext cx="7794720" cy="10350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22" name="Line 10"/>
            <p:cNvSpPr/>
            <p:nvPr/>
          </p:nvSpPr>
          <p:spPr>
            <a:xfrm flipH="1" flipV="1">
              <a:off x="843120" y="5095440"/>
              <a:ext cx="7780320" cy="10494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323" name="Text Box 2"/>
          <p:cNvSpPr/>
          <p:nvPr/>
        </p:nvSpPr>
        <p:spPr>
          <a:xfrm>
            <a:off x="2422440" y="758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105000" y="407880"/>
            <a:ext cx="29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POVEZANOS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38160" y="17510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07080" y="1873080"/>
            <a:ext cx="855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99"/>
                </a:solidFill>
                <a:latin typeface="Arial"/>
              </a:rPr>
              <a:t>Korelacija između stavova prema znanosti</a:t>
            </a:r>
            <a:br>
              <a:rPr sz="2800"/>
            </a:br>
            <a:r>
              <a:rPr b="0" lang="hr-HR" sz="2800" spc="-1" strike="noStrike">
                <a:solidFill>
                  <a:srgbClr val="ffff99"/>
                </a:solidFill>
                <a:latin typeface="Arial"/>
              </a:rPr>
              <a:t>i slušanja kolegija “Uvod u znanstveni rad u medicini”</a:t>
            </a:r>
            <a:br>
              <a:rPr sz="2800"/>
            </a:br>
            <a:r>
              <a:rPr b="0" lang="hr-HR" sz="2800" spc="-1" strike="noStrike">
                <a:solidFill>
                  <a:srgbClr val="ffff99"/>
                </a:solidFill>
                <a:latin typeface="Arial"/>
              </a:rPr>
              <a:t>iznosi </a:t>
            </a:r>
            <a:r>
              <a:rPr b="0" lang="el-GR" sz="2800" spc="-1" strike="noStrike">
                <a:solidFill>
                  <a:srgbClr val="ff9999"/>
                </a:solidFill>
                <a:latin typeface="Arial"/>
                <a:ea typeface="Arial"/>
              </a:rPr>
              <a:t>ρ</a:t>
            </a:r>
            <a:r>
              <a:rPr b="0" lang="hr-HR" sz="2800" spc="-1" strike="noStrike">
                <a:solidFill>
                  <a:srgbClr val="ff9999"/>
                </a:solidFill>
                <a:latin typeface="Arial"/>
                <a:ea typeface="Arial"/>
              </a:rPr>
              <a:t>=0.84, p&lt;0.001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1257480" y="3735360"/>
            <a:ext cx="66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99"/>
                </a:solidFill>
                <a:latin typeface="Arial"/>
              </a:rPr>
              <a:t>Studenti koji su slušali kolegij vjerojatno</a:t>
            </a:r>
            <a:br>
              <a:rPr sz="2800"/>
            </a:br>
            <a:r>
              <a:rPr b="0" lang="hr-HR" sz="2800" spc="-1" strike="noStrike">
                <a:solidFill>
                  <a:srgbClr val="ffff99"/>
                </a:solidFill>
                <a:latin typeface="Arial"/>
              </a:rPr>
              <a:t>imaju pozitivnije stavove prema znanosti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1158840" y="1081080"/>
            <a:ext cx="49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99"/>
                </a:solidFill>
                <a:latin typeface="Arial"/>
              </a:rPr>
              <a:t>NE ZNAČI I UZROČNOS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Oval 14"/>
          <p:cNvSpPr/>
          <p:nvPr/>
        </p:nvSpPr>
        <p:spPr>
          <a:xfrm>
            <a:off x="6046920" y="0"/>
            <a:ext cx="3097080" cy="1828800"/>
          </a:xfrm>
          <a:prstGeom prst="ellipse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99"/>
                </a:solidFill>
                <a:latin typeface="Arial"/>
              </a:rPr>
              <a:t>SAMO POKUSOM</a:t>
            </a:r>
            <a:br>
              <a:rPr sz="2400"/>
            </a:br>
            <a:r>
              <a:rPr b="1" lang="hr-HR" sz="2400" spc="-1" strike="noStrike">
                <a:solidFill>
                  <a:srgbClr val="ffff99"/>
                </a:solidFill>
                <a:latin typeface="Arial"/>
              </a:rPr>
              <a:t>MOŽEMO UTVRDITI</a:t>
            </a:r>
            <a:br>
              <a:rPr sz="2400"/>
            </a:br>
            <a:r>
              <a:rPr b="1" lang="hr-HR" sz="2400" spc="-1" strike="noStrike">
                <a:solidFill>
                  <a:srgbClr val="ffff99"/>
                </a:solidFill>
                <a:latin typeface="Arial"/>
              </a:rPr>
              <a:t>UZROČNOST!!!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8"/>
          <p:cNvGrpSpPr/>
          <p:nvPr/>
        </p:nvGrpSpPr>
        <p:grpSpPr>
          <a:xfrm>
            <a:off x="532080" y="264960"/>
            <a:ext cx="6590880" cy="3426480"/>
            <a:chOff x="532080" y="264960"/>
            <a:chExt cx="6590880" cy="3426480"/>
          </a:xfrm>
        </p:grpSpPr>
        <p:sp>
          <p:nvSpPr>
            <p:cNvPr id="331" name="Rectangle 4"/>
            <p:cNvSpPr/>
            <p:nvPr/>
          </p:nvSpPr>
          <p:spPr>
            <a:xfrm>
              <a:off x="542160" y="1212840"/>
              <a:ext cx="53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99"/>
                  </a:solidFill>
                  <a:latin typeface="Arial"/>
                </a:rPr>
                <a:t>ELEMENTARY CONCEPTS IN STATISTICS </a:t>
              </a:r>
              <a:br>
                <a:rPr sz="2000"/>
              </a:br>
              <a:r>
                <a:rPr b="0" lang="hr-HR" sz="2000" spc="-1" strike="noStrike">
                  <a:solidFill>
                    <a:srgbClr val="66ff33"/>
                  </a:solidFill>
                  <a:latin typeface="Arial"/>
                </a:rPr>
                <a:t>http://www.statsoftinc.com/textbook/esc.html</a:t>
              </a:r>
              <a:endParaRPr b="0" lang="en-US" sz="20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32" name="Rectangle 5"/>
            <p:cNvSpPr/>
            <p:nvPr/>
          </p:nvSpPr>
          <p:spPr>
            <a:xfrm>
              <a:off x="532440" y="264960"/>
              <a:ext cx="573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99"/>
                  </a:solidFill>
                  <a:latin typeface="Arial"/>
                </a:rPr>
                <a:t>BIOSTATISTICS INSTRUCTIONAL MANUAL</a:t>
              </a:r>
              <a:br>
                <a:rPr sz="2000"/>
              </a:br>
              <a:r>
                <a:rPr b="0" lang="hr-HR" sz="2000" spc="-1" strike="noStrike">
                  <a:solidFill>
                    <a:srgbClr val="ffff99"/>
                  </a:solidFill>
                  <a:latin typeface="Arial"/>
                </a:rPr>
                <a:t>http://www.sjsu.edu/faculty/gerstman/StatPrimer/ </a:t>
              </a:r>
              <a:endParaRPr b="0" lang="en-US" sz="20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33" name="Rectangle 6"/>
            <p:cNvSpPr/>
            <p:nvPr/>
          </p:nvSpPr>
          <p:spPr>
            <a:xfrm>
              <a:off x="532800" y="2987640"/>
              <a:ext cx="490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99"/>
                  </a:solidFill>
                  <a:latin typeface="Arial"/>
                </a:rPr>
                <a:t>POWER CALCULATION</a:t>
              </a:r>
              <a:br>
                <a:rPr sz="2000"/>
              </a:br>
              <a:r>
                <a:rPr b="0" lang="hr-HR" sz="2000" spc="-1" strike="noStrike">
                  <a:solidFill>
                    <a:srgbClr val="ffff99"/>
                  </a:solidFill>
                  <a:latin typeface="Arial"/>
                </a:rPr>
                <a:t>http://calculators.stat.ucla.edu/powercalc/ </a:t>
              </a:r>
              <a:endParaRPr b="0" lang="en-US" sz="20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34" name="Rectangle 7"/>
            <p:cNvSpPr/>
            <p:nvPr/>
          </p:nvSpPr>
          <p:spPr>
            <a:xfrm>
              <a:off x="532080" y="2122560"/>
              <a:ext cx="6590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99"/>
                  </a:solidFill>
                  <a:latin typeface="Arial"/>
                </a:rPr>
                <a:t>ONLINE STATISTICS TEXTBOOK</a:t>
              </a:r>
              <a:br>
                <a:rPr sz="2000"/>
              </a:br>
              <a:r>
                <a:rPr b="1" lang="hr-HR" sz="20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0" lang="hr-HR" sz="2000" spc="-1" strike="noStrike">
                  <a:solidFill>
                    <a:srgbClr val="ffff99"/>
                  </a:solidFill>
                  <a:latin typeface="Arial"/>
                </a:rPr>
                <a:t>http://www2.chass.ncsu.edu/garson/pa765/statnote.htm </a:t>
              </a:r>
              <a:endParaRPr b="0" lang="en-US" sz="20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9"/>
          <p:cNvSpPr/>
          <p:nvPr/>
        </p:nvSpPr>
        <p:spPr>
          <a:xfrm>
            <a:off x="0" y="181080"/>
            <a:ext cx="3559320" cy="1265040"/>
          </a:xfrm>
          <a:prstGeom prst="wedgeEllipseCallout">
            <a:avLst>
              <a:gd name="adj1" fmla="val 99819"/>
              <a:gd name="adj2" fmla="val 6443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Arial"/>
              </a:rPr>
              <a:t>i..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6" name="AutoShape 13"/>
          <p:cNvSpPr/>
          <p:nvPr/>
        </p:nvSpPr>
        <p:spPr>
          <a:xfrm>
            <a:off x="0" y="0"/>
            <a:ext cx="4659480" cy="1544760"/>
          </a:xfrm>
          <a:prstGeom prst="wedgeEllipseCallout">
            <a:avLst>
              <a:gd name="adj1" fmla="val 65092"/>
              <a:gd name="adj2" fmla="val 57398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Arial"/>
              </a:rPr>
              <a:t>RAZGOVARAJTE SA STATISTIČARIMA, I ONI SU LJUDI!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55440" y="4851360"/>
            <a:ext cx="3559320" cy="1295280"/>
          </a:xfrm>
          <a:prstGeom prst="wedgeEllipseCallout">
            <a:avLst>
              <a:gd name="adj1" fmla="val 75648"/>
              <a:gd name="adj2" fmla="val -163601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Arial"/>
              </a:rPr>
              <a:t>ODGOVORNO TUMAČITE!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55440" y="1577880"/>
            <a:ext cx="3559320" cy="1295640"/>
          </a:xfrm>
          <a:prstGeom prst="wedgeEllipseCallout">
            <a:avLst>
              <a:gd name="adj1" fmla="val 75467"/>
              <a:gd name="adj2" fmla="val 981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Arial"/>
              </a:rPr>
              <a:t>PAŽLJIVO PLANIRAJTE!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AutoShape 11"/>
          <p:cNvSpPr/>
          <p:nvPr/>
        </p:nvSpPr>
        <p:spPr>
          <a:xfrm>
            <a:off x="55440" y="3046320"/>
            <a:ext cx="3559320" cy="1295640"/>
          </a:xfrm>
          <a:prstGeom prst="wedgeEllipseCallout">
            <a:avLst>
              <a:gd name="adj1" fmla="val 75824"/>
              <a:gd name="adj2" fmla="val -80023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Arial"/>
              </a:rPr>
              <a:t>SUSTAVNO OBRAĐUJTE!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40" name="Picture 4" descr="wizard2"/>
          <p:cNvPicPr/>
          <p:nvPr/>
        </p:nvPicPr>
        <p:blipFill>
          <a:blip r:embed="rId1"/>
          <a:stretch/>
        </p:blipFill>
        <p:spPr>
          <a:xfrm>
            <a:off x="3559320" y="0"/>
            <a:ext cx="558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PARAMETRI KOJI ODREĐUJU NUŽNU VELIČINU UZOR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9999"/>
                </a:solidFill>
                <a:latin typeface="Arial"/>
              </a:rPr>
              <a:t>Uzorak</a:t>
            </a: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9999"/>
                </a:solidFill>
                <a:latin typeface="Arial"/>
              </a:rPr>
              <a:t>treba biti već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Kada je manja razlika koju tražimo (između pokusne i kontrolne skupine); u ovom pokusu to je razlika mu1 i mu2 (v. dalj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Kada je veća varijabilnost podataka s kojima radimo; u ovom postupku to je "sigm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Kada želimo veću snagu studije, tj. vjerojatnost da testiranjem otkrijemo razliku ako ona postoji u populaci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Kada želimo manju vjerojatnost (P) da je opažena razlika nastala slučajno (za P&lt;0,001 treba veći uzorak nego za P&lt;0,00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IZRAČUN</a:t>
            </a: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VELIČINE UZORKA</a:t>
            </a:r>
            <a:br>
              <a:rPr sz="3200"/>
            </a:b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definicije potrebnih paramet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6844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1199"/>
              </a:spcAft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9999"/>
                </a:solidFill>
                <a:latin typeface="Arial"/>
              </a:rPr>
              <a:t>Snaga studije </a:t>
            </a:r>
            <a:r>
              <a:rPr b="0" lang="hr-HR" sz="1900" spc="-1" strike="noStrike">
                <a:solidFill>
                  <a:srgbClr val="ffff99"/>
                </a:solidFill>
                <a:latin typeface="Arial"/>
              </a:rPr>
              <a:t>(power of the study) znači da će Vaša studija s 80% vjerojatnosti otkriti razliku (koju testirate, između pokusne i kontrolne skupine) ako ona postoji (u programu je već postavljena na 0,8; nju uzmite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Aft>
                <a:spcPts val="1199"/>
              </a:spcAft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9999"/>
                </a:solidFill>
                <a:latin typeface="Arial"/>
              </a:rPr>
              <a:t>Razina značajnosti </a:t>
            </a:r>
            <a:r>
              <a:rPr b="0" lang="hr-HR" sz="1900" spc="-1" strike="noStrike">
                <a:solidFill>
                  <a:srgbClr val="ffff99"/>
                </a:solidFill>
                <a:latin typeface="Arial"/>
              </a:rPr>
              <a:t>(P) je vjerojatnost da je razlika koju dobijete u studiji nastala slučajno, tj. da stvarno ne postoji (nema razlike između skupina). U programu je već postavljena na 0,05; nju uzmite. Kada je P&lt;0,05, uzimamo da je opažena razlika stvarna (značajna, signifikantna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Aft>
                <a:spcPts val="1199"/>
              </a:spcAft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9999"/>
                </a:solidFill>
                <a:latin typeface="Arial"/>
              </a:rPr>
              <a:t>Klinički relevantna razlika</a:t>
            </a:r>
            <a:r>
              <a:rPr b="0" lang="hr-HR" sz="1900" spc="-1" strike="noStrike">
                <a:solidFill>
                  <a:srgbClr val="ffff99"/>
                </a:solidFill>
                <a:latin typeface="Arial"/>
              </a:rPr>
              <a:t>: u formulu se uvrste brojevi za mu1 i mu2. To su srednje vrijednosti rezultata u dvije istraživačke skupine. Razlika između te dvije vrijednosti razlika je koju u istraživanju tražimo (testiramo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Aft>
                <a:spcPts val="1199"/>
              </a:spcAft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9999"/>
                </a:solidFill>
                <a:latin typeface="Arial"/>
              </a:rPr>
              <a:t>Varijabilnost podataka </a:t>
            </a:r>
            <a:r>
              <a:rPr b="0" lang="hr-HR" sz="1900" spc="-1" strike="noStrike">
                <a:solidFill>
                  <a:srgbClr val="ffff99"/>
                </a:solidFill>
                <a:latin typeface="Arial"/>
              </a:rPr>
              <a:t>je standardna devijacija srednje vrijednosti rezultata u dvije istraživačke skupine koju ćete dobiti kada završite studiju (v. dalje kako se ona dobije u fazi planiranja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1"/>
          <p:cNvGrpSpPr/>
          <p:nvPr/>
        </p:nvGrpSpPr>
        <p:grpSpPr>
          <a:xfrm>
            <a:off x="312840" y="1047600"/>
            <a:ext cx="8545320" cy="6445440"/>
            <a:chOff x="312840" y="1047600"/>
            <a:chExt cx="8545320" cy="6445440"/>
          </a:xfrm>
        </p:grpSpPr>
        <p:graphicFrame>
          <p:nvGraphicFramePr>
            <p:cNvPr id="73" name="Object 2"/>
            <p:cNvGraphicFramePr/>
            <p:nvPr/>
          </p:nvGraphicFramePr>
          <p:xfrm>
            <a:off x="312840" y="1047600"/>
            <a:ext cx="8545320" cy="6445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840" y="1047600"/>
                      <a:ext cx="8545320" cy="644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Text Box 5"/>
            <p:cNvSpPr/>
            <p:nvPr/>
          </p:nvSpPr>
          <p:spPr>
            <a:xfrm>
              <a:off x="2185560" y="3727440"/>
              <a:ext cx="1404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333399"/>
                  </a:solidFill>
                  <a:latin typeface="Arial"/>
                </a:rPr>
                <a:t>Više ili visoko</a:t>
              </a:r>
              <a:endParaRPr b="0" lang="en-US" sz="1600" spc="-1" strike="noStrike">
                <a:solidFill>
                  <a:srgbClr val="ffff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333399"/>
                  </a:solidFill>
                  <a:latin typeface="Arial"/>
                </a:rPr>
                <a:t>obrazovanje</a:t>
              </a:r>
              <a:endParaRPr b="0" lang="en-US" sz="1600" spc="-1" strike="noStrike">
                <a:solidFill>
                  <a:srgbClr val="ffff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333399"/>
                  </a:solidFill>
                  <a:latin typeface="Arial"/>
                </a:rPr>
                <a:t>12%</a:t>
              </a:r>
              <a:endParaRPr b="0" lang="en-US" sz="16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6" name="Text Box 7"/>
            <p:cNvSpPr/>
            <p:nvPr/>
          </p:nvSpPr>
          <p:spPr>
            <a:xfrm>
              <a:off x="2998800" y="2854440"/>
              <a:ext cx="1480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333399"/>
                  </a:solidFill>
                  <a:latin typeface="Arial"/>
                </a:rPr>
                <a:t>Nezavršena</a:t>
              </a:r>
              <a:endParaRPr b="0" lang="en-US" sz="1600" spc="-1" strike="noStrike">
                <a:solidFill>
                  <a:srgbClr val="ffff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333399"/>
                  </a:solidFill>
                  <a:latin typeface="Arial"/>
                </a:rPr>
                <a:t>osnovna škola</a:t>
              </a:r>
              <a:br>
                <a:rPr sz="1600"/>
              </a:br>
              <a:r>
                <a:rPr b="0" lang="hr-HR" sz="1600" spc="-1" strike="noStrike">
                  <a:solidFill>
                    <a:srgbClr val="333399"/>
                  </a:solidFill>
                  <a:latin typeface="Arial"/>
                </a:rPr>
                <a:t>19%</a:t>
              </a:r>
              <a:endParaRPr b="0" lang="en-US" sz="16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4887360" y="2917800"/>
              <a:ext cx="152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333399"/>
                  </a:solidFill>
                  <a:latin typeface="Arial"/>
                </a:rPr>
                <a:t>Osnovna škola</a:t>
              </a:r>
              <a:br>
                <a:rPr sz="1600"/>
              </a:br>
              <a:r>
                <a:rPr b="0" lang="hr-HR" sz="1600" spc="-1" strike="noStrike">
                  <a:solidFill>
                    <a:srgbClr val="333399"/>
                  </a:solidFill>
                  <a:latin typeface="Arial"/>
                </a:rPr>
                <a:t>22%</a:t>
              </a:r>
              <a:endParaRPr b="0" lang="en-US" sz="16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4511880" y="4881600"/>
              <a:ext cx="141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333399"/>
                  </a:solidFill>
                  <a:latin typeface="Arial"/>
                </a:rPr>
                <a:t>Srednja škola</a:t>
              </a:r>
              <a:br>
                <a:rPr sz="1600"/>
              </a:br>
              <a:r>
                <a:rPr b="0" lang="hr-HR" sz="1600" spc="-1" strike="noStrike">
                  <a:solidFill>
                    <a:srgbClr val="333399"/>
                  </a:solidFill>
                  <a:latin typeface="Arial"/>
                </a:rPr>
                <a:t>47%</a:t>
              </a:r>
              <a:endParaRPr b="0" lang="en-US" sz="16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79" name="Oval 23"/>
          <p:cNvSpPr/>
          <p:nvPr/>
        </p:nvSpPr>
        <p:spPr>
          <a:xfrm>
            <a:off x="4019400" y="3662280"/>
            <a:ext cx="1063800" cy="1109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648600" y="59364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UZORAK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575440" y="117324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Kakvo je stanje u populaciji?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>
            <a:off x="4017960" y="3657600"/>
            <a:ext cx="1063800" cy="1109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965320" y="27417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2487600" y="4525920"/>
            <a:ext cx="1063800" cy="110988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AutoShape 17"/>
          <p:cNvSpPr/>
          <p:nvPr/>
        </p:nvSpPr>
        <p:spPr>
          <a:xfrm>
            <a:off x="6985080" y="2832120"/>
            <a:ext cx="1979640" cy="311040"/>
          </a:xfrm>
          <a:prstGeom prst="wedgeRectCallout">
            <a:avLst>
              <a:gd name="adj1" fmla="val -148638"/>
              <a:gd name="adj2" fmla="val 31479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Arial"/>
              </a:rPr>
              <a:t>Reprezentativan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Oval 18"/>
          <p:cNvSpPr/>
          <p:nvPr/>
        </p:nvSpPr>
        <p:spPr>
          <a:xfrm>
            <a:off x="4302000" y="1843200"/>
            <a:ext cx="1063800" cy="11095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181080" y="4000680"/>
            <a:ext cx="1979640" cy="311040"/>
          </a:xfrm>
          <a:prstGeom prst="wedgeRectCallout">
            <a:avLst>
              <a:gd name="adj1" fmla="val 68685"/>
              <a:gd name="adj2" fmla="val 20510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Nereprezentativan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AutoShape 20"/>
          <p:cNvSpPr/>
          <p:nvPr/>
        </p:nvSpPr>
        <p:spPr>
          <a:xfrm>
            <a:off x="6927840" y="1392120"/>
            <a:ext cx="1979640" cy="311400"/>
          </a:xfrm>
          <a:prstGeom prst="wedgeRectCallout">
            <a:avLst>
              <a:gd name="adj1" fmla="val -128268"/>
              <a:gd name="adj2" fmla="val 2484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Nereprezentativan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POSTUPAK IZRAČUNA VELIČINE UZOR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68000" y="98064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Na svemrežju dođite na stranicu s programom za izračun, poveznicom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http://www.stat.ubc.ca/~rollin/stats/ssize/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Odaberite usporedbu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mparison</a:t>
            </a: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) koju želite napravi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Pretpostavimo da Vam treb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aring Means for Two Independent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Ostavite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ault</a:t>
            </a: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) da je </a:t>
            </a:r>
            <a:r>
              <a:rPr b="0" lang="hr-HR" sz="2000" spc="-1" strike="noStrike">
                <a:solidFill>
                  <a:srgbClr val="ff9999"/>
                </a:solidFill>
                <a:latin typeface="Arial"/>
              </a:rPr>
              <a:t>α 0,05, snaga studije 0,8 </a:t>
            </a: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i da je test </a:t>
            </a:r>
            <a:r>
              <a:rPr b="0" lang="hr-HR" sz="2000" spc="-1" strike="noStrike">
                <a:solidFill>
                  <a:srgbClr val="ff9999"/>
                </a:solidFill>
                <a:latin typeface="Arial"/>
              </a:rPr>
              <a:t>dvostrani</a:t>
            </a: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wo-sided</a:t>
            </a: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Za </a:t>
            </a:r>
            <a:r>
              <a:rPr b="0" lang="hr-HR" sz="2000" spc="-1" strike="noStrike">
                <a:solidFill>
                  <a:srgbClr val="ff9999"/>
                </a:solidFill>
                <a:latin typeface="Arial"/>
              </a:rPr>
              <a:t>mu1</a:t>
            </a: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 upišite srednju vrijednost iz svoje pokusne skup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Za </a:t>
            </a:r>
            <a:r>
              <a:rPr b="0" lang="hr-HR" sz="2000" spc="-1" strike="noStrike">
                <a:solidFill>
                  <a:srgbClr val="ff9999"/>
                </a:solidFill>
                <a:latin typeface="Arial"/>
              </a:rPr>
              <a:t>mu2</a:t>
            </a: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 upišite srednju vrijednost iz svoje kontrolne skup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Za </a:t>
            </a: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sigma</a:t>
            </a: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 upišite standardnu devijaciju (veću) iz svoje kontrolne ili pokusne skup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Pritisnite na polje "</a:t>
            </a: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sample size</a:t>
            </a: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"; dobili ste potreban broj ispitanika u svakoj skup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Content Placeholder 3" descr="Stat.png"/>
          <p:cNvPicPr/>
          <p:nvPr/>
        </p:nvPicPr>
        <p:blipFill>
          <a:blip r:embed="rId1"/>
          <a:stretch/>
        </p:blipFill>
        <p:spPr>
          <a:xfrm>
            <a:off x="777960" y="633240"/>
            <a:ext cx="794376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9185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PROCJENA VELIČINE UZORKA – PRAKTIČNE NAPOM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536400" y="1357200"/>
            <a:ext cx="825048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114560" y="198756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536400" y="1400040"/>
            <a:ext cx="792324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U procjenu veličine uzorka treba uključiti i očekivano osipanje ispitanika, npr. dodati 20-30% za istraživanja koja će dulje trajati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119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Broj ispitanika zaokružite na cijeli broj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119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Procijenite koliko će Vam vremena trebati da prikupite uzorak čiju ste nužnu (minimalnu) veličinu ovdje procijenili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119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Veličina uzorka jest jako važna, ali ne će pomoći ako sam uzorak nije dobro odabran!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333399"/>
                </a:solidFill>
                <a:latin typeface="Arial"/>
              </a:rPr>
              <a:t>PRIMJER PISANJA TEKSTA S OPISOM IZRAČUNA </a:t>
            </a: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VELIČINE UZORKA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9999"/>
                </a:solidFill>
                <a:latin typeface="Arial"/>
              </a:rPr>
              <a:t>PRIMJER 1: IMATE VLASTITE PRETHODN0 DOBIVENE REZUL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99"/>
                </a:solidFill>
                <a:latin typeface="Arial"/>
              </a:rPr>
              <a:t>Potrebnu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300" spc="-1" strike="noStrike">
                <a:solidFill>
                  <a:srgbClr val="ffff99"/>
                </a:solidFill>
                <a:latin typeface="Arial"/>
              </a:rPr>
              <a:t>veličinu uzorka izračunali smo s pomoću mrežnoga programa koji se nalazi na mrežnoj stranici http://www.stat.ubc.ca/~rollin/stats/ssize/. U izračunu smo se poslužili našim prethodno objavljenim rezultatima (14). [ili: … rezultatima našega neobjavljenog preliminarnog (pilotnog) istraživanja .] Aritmetička sredina u pokusnoj skupini bila je 1400 mL (mu1), a u kontrolnoj 1100 mL (mu2), uz standardnu devijaciju (sigma) od 450 mL (u pokusnoj skupini; u kontrolnoj skupini bila je 426 mL). Uz odabranu snagu studije od 0.8 i razinu značajnosti P&lt;0.05 izračunali smo treba nam 28 ispitanika po </a:t>
            </a:r>
            <a:r>
              <a:rPr b="0" lang="hr-HR" sz="1900" spc="-1" strike="noStrike">
                <a:solidFill>
                  <a:srgbClr val="ff9999"/>
                </a:solidFill>
                <a:latin typeface="Arial"/>
              </a:rPr>
              <a:t>skupin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9999"/>
                </a:solidFill>
                <a:latin typeface="Arial"/>
              </a:rPr>
              <a:t>PRIMJER 2: PODATKE ZA IZRAČUN UZELI STE IZ LITERATURE (PUBLIKACIJA U KOJOJ SU MJERENI PARAMETRI MU1 I MU2 KOJE I VI PLANIRATE MJERI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99"/>
                </a:solidFill>
                <a:latin typeface="Arial"/>
              </a:rPr>
              <a:t>Do broja 60 ispitanika (30 ispitanika po skupini) došli (došla, došao) smo (sam) s pomoću mrežnoga programa za izračun broja ispitanika koji se nalazi na mrežnoj stranici http://www.stat.ubc.ca/~rollin/stats/ssize/. Da bismo dobili očekivanu razliku od 1400 mL krvi u pokusnoj skupini, a 1100 mL u kontrolnoj skupini (prema referenciji 17), uz standardnu devijaciju od oko 450 mL te snagu studije od 0.8 i razinu značajnosti P&lt;0.05 izračunali smo treba nam 28 ispitanika po skupini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9999"/>
                </a:solidFill>
                <a:latin typeface="Arial"/>
              </a:rPr>
              <a:t>PRIMJER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ff9999"/>
                </a:solidFill>
                <a:latin typeface="Arial"/>
              </a:rPr>
              <a:t>3: VAŠA PROCJ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99"/>
                </a:solidFill>
                <a:latin typeface="Arial"/>
              </a:rPr>
              <a:t>Potrebnu veličinu uzorka izračunali smo s pomoću mrežnoga programa koji se nalazi na mrežnoj stranici http://www.stat.ubc.ca/~rollin/stats/ssize/. Pslužili smo se vlastitom procjenom parametara potrebnih za izračun, jer nismo  imali prethodnih vlastitih rezultata a u literaturi nismo našli mjerenja naše glavne mjere ishoda u dostatno sličnim uvjetima. Uzeli smo da je aritmetička sredina u pokusnoj skupini 1400 mL (mu1), a u kontrolnoj 1100 mL (mu2), uz standardnu devijaciju (sigma) od 450 mL. Uz odabranu snagu studije od 0.8 i razinu značajnosti P&lt;0.05 izračunali smo treba nam 28 ispitanika po skupi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648600" y="26496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UZORAK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1781640" y="8762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Vrste uzoraka (načini uzimanja uzoraka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568080" y="17542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Slučajni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566280" y="37242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Stratificirani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566280" y="28987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Sustavni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567720" y="46990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Prigodni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2429640" y="1754280"/>
            <a:ext cx="60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Svaki član populacije ima jednaku vjerojatnost biti odabra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(izvlačenje brojeva iz šešira, tablice slučajnih brojeva,</a:t>
            </a:r>
            <a:br>
              <a:rPr sz="1800"/>
            </a:b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računalni programi...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2399040" y="291312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Uzima se svaki n-ti član populacije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2414880" y="3724200"/>
            <a:ext cx="54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Populacija se dijeli na “slojeve” pa se iz njih uzimaju</a:t>
            </a:r>
            <a:br>
              <a:rPr sz="1800"/>
            </a:b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slučajni uzorci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2428920" y="4699080"/>
            <a:ext cx="55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Podatci se uzimaju od ispitanika koje imamo “pri ruci”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648600" y="26496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UZORAK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287880" y="113832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99"/>
                </a:solidFill>
                <a:latin typeface="Arial"/>
              </a:rPr>
              <a:t>Veličina uzork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331560" y="1681200"/>
            <a:ext cx="30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Varijabilnost mjerene</a:t>
            </a:r>
            <a:br>
              <a:rPr sz="2400"/>
            </a:b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pojav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5756040" y="1671480"/>
            <a:ext cx="26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Željena preciznost</a:t>
            </a:r>
            <a:br>
              <a:rPr sz="2400"/>
            </a:b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mjerenj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903960" y="3743280"/>
            <a:ext cx="73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99"/>
                </a:solidFill>
                <a:latin typeface="Arial"/>
              </a:rPr>
              <a:t>Snaga</a:t>
            </a: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 istraživanja –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ff99"/>
                </a:solidFill>
                <a:uFillTx/>
                <a:latin typeface="Arial"/>
              </a:rPr>
              <a:t>vjerojatnost</a:t>
            </a: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 pronalaženja razlike koja zaista i postoji u populaciji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3773520" y="50306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Pogrješke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442800" y="5425920"/>
            <a:ext cx="84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99"/>
                </a:solidFill>
                <a:latin typeface="Arial"/>
                <a:ea typeface="Arial"/>
              </a:rPr>
              <a:t>alfa – pronašli smo statistički značajnu razliku, a razlike zapravo nem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442800" y="58467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99"/>
                </a:solidFill>
                <a:latin typeface="Arial"/>
              </a:rPr>
              <a:t>beta</a:t>
            </a: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99"/>
                </a:solidFill>
                <a:latin typeface="Arial"/>
                <a:ea typeface="Arial"/>
              </a:rPr>
              <a:t>–</a:t>
            </a:r>
            <a:r>
              <a:rPr b="0" lang="hr-HR" sz="32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ffff99"/>
                </a:solidFill>
                <a:latin typeface="Arial"/>
                <a:ea typeface="Arial"/>
              </a:rPr>
              <a:t>nismo pronašli razliku, a razlika zapravo postoji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AutoShape 26"/>
          <p:cNvSpPr/>
          <p:nvPr/>
        </p:nvSpPr>
        <p:spPr>
          <a:xfrm>
            <a:off x="4348080" y="1763640"/>
            <a:ext cx="486000" cy="2003400"/>
          </a:xfrm>
          <a:prstGeom prst="downArrow">
            <a:avLst>
              <a:gd name="adj1" fmla="val 50000"/>
              <a:gd name="adj2" fmla="val 103056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power_ho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Oval 4"/>
          <p:cNvSpPr/>
          <p:nvPr/>
        </p:nvSpPr>
        <p:spPr>
          <a:xfrm>
            <a:off x="392040" y="738360"/>
            <a:ext cx="2336760" cy="423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160720" y="676440"/>
            <a:ext cx="49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OBLIKOVANJE SKUPIN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11" name="Group 19"/>
          <p:cNvGrpSpPr/>
          <p:nvPr/>
        </p:nvGrpSpPr>
        <p:grpSpPr>
          <a:xfrm>
            <a:off x="3052800" y="1589040"/>
            <a:ext cx="3124080" cy="2627280"/>
            <a:chOff x="3052800" y="1589040"/>
            <a:chExt cx="3124080" cy="2627280"/>
          </a:xfrm>
        </p:grpSpPr>
        <p:graphicFrame>
          <p:nvGraphicFramePr>
            <p:cNvPr id="112" name="Object 6"/>
            <p:cNvGraphicFramePr/>
            <p:nvPr/>
          </p:nvGraphicFramePr>
          <p:xfrm>
            <a:off x="3052800" y="1860480"/>
            <a:ext cx="3124080" cy="23558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52800" y="1860480"/>
                      <a:ext cx="3124080" cy="23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Text Box 7"/>
            <p:cNvSpPr/>
            <p:nvPr/>
          </p:nvSpPr>
          <p:spPr>
            <a:xfrm>
              <a:off x="4041000" y="158904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ff99"/>
                  </a:solidFill>
                  <a:latin typeface="Arial"/>
                </a:rPr>
                <a:t>Uzorak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1257480" y="3527280"/>
            <a:ext cx="7349400" cy="3012120"/>
            <a:chOff x="1257480" y="3527280"/>
            <a:chExt cx="7349400" cy="3012120"/>
          </a:xfrm>
        </p:grpSpPr>
        <p:graphicFrame>
          <p:nvGraphicFramePr>
            <p:cNvPr id="116" name="Object 8"/>
            <p:cNvGraphicFramePr/>
            <p:nvPr/>
          </p:nvGraphicFramePr>
          <p:xfrm>
            <a:off x="1257480" y="4784760"/>
            <a:ext cx="1582560" cy="1193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7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57480" y="4784760"/>
                      <a:ext cx="1582560" cy="119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Text Box 11"/>
            <p:cNvSpPr/>
            <p:nvPr/>
          </p:nvSpPr>
          <p:spPr>
            <a:xfrm>
              <a:off x="1422720" y="614052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99"/>
                  </a:solidFill>
                  <a:latin typeface="Arial"/>
                </a:rPr>
                <a:t>Kontrolna</a:t>
              </a:r>
              <a:endParaRPr b="0" lang="en-US" sz="2000" spc="-1" strike="noStrike">
                <a:solidFill>
                  <a:srgbClr val="ffff99"/>
                </a:solidFill>
                <a:latin typeface="Arial"/>
              </a:endParaRPr>
            </a:p>
          </p:txBody>
        </p:sp>
        <p:graphicFrame>
          <p:nvGraphicFramePr>
            <p:cNvPr id="119" name="Object 10"/>
            <p:cNvGraphicFramePr/>
            <p:nvPr/>
          </p:nvGraphicFramePr>
          <p:xfrm>
            <a:off x="6210360" y="4775040"/>
            <a:ext cx="1582560" cy="11941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20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0360" y="4775040"/>
                      <a:ext cx="1582560" cy="119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Text Box 12"/>
            <p:cNvSpPr/>
            <p:nvPr/>
          </p:nvSpPr>
          <p:spPr>
            <a:xfrm>
              <a:off x="5382720" y="6140520"/>
              <a:ext cx="32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99"/>
                  </a:solidFill>
                  <a:latin typeface="Arial"/>
                </a:rPr>
                <a:t>Eksperimentalna (1 ili više)</a:t>
              </a:r>
              <a:endParaRPr b="0" lang="en-US" sz="20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22" name="Text Box 16"/>
            <p:cNvSpPr/>
            <p:nvPr/>
          </p:nvSpPr>
          <p:spPr>
            <a:xfrm>
              <a:off x="3236040" y="4224240"/>
              <a:ext cx="268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99"/>
                  </a:solidFill>
                  <a:latin typeface="Arial"/>
                </a:rPr>
                <a:t>randomizacija</a:t>
              </a: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23" name="AutoShape 17"/>
            <p:cNvSpPr/>
            <p:nvPr/>
          </p:nvSpPr>
          <p:spPr>
            <a:xfrm rot="2521800">
              <a:off x="2874600" y="3508200"/>
              <a:ext cx="485640" cy="1690920"/>
            </a:xfrm>
            <a:prstGeom prst="downArrow">
              <a:avLst>
                <a:gd name="adj1" fmla="val 50000"/>
                <a:gd name="adj2" fmla="val 87046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24" name="AutoShape 18"/>
            <p:cNvSpPr/>
            <p:nvPr/>
          </p:nvSpPr>
          <p:spPr>
            <a:xfrm rot="18935400">
              <a:off x="5749560" y="3455640"/>
              <a:ext cx="485640" cy="1690560"/>
            </a:xfrm>
            <a:prstGeom prst="downArrow">
              <a:avLst>
                <a:gd name="adj1" fmla="val 50000"/>
                <a:gd name="adj2" fmla="val 8702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125" name="Group 33"/>
          <p:cNvGrpSpPr/>
          <p:nvPr/>
        </p:nvGrpSpPr>
        <p:grpSpPr>
          <a:xfrm>
            <a:off x="2160720" y="1236600"/>
            <a:ext cx="5546520" cy="3783240"/>
            <a:chOff x="2160720" y="1236600"/>
            <a:chExt cx="5546520" cy="3783240"/>
          </a:xfrm>
        </p:grpSpPr>
        <p:sp>
          <p:nvSpPr>
            <p:cNvPr id="126" name="Freeform 22"/>
            <p:cNvSpPr/>
            <p:nvPr/>
          </p:nvSpPr>
          <p:spPr>
            <a:xfrm>
              <a:off x="5170320" y="1917720"/>
              <a:ext cx="2536920" cy="3102120"/>
            </a:xfrm>
            <a:custGeom>
              <a:avLst/>
              <a:gdLst>
                <a:gd name="textAreaLeft" fmla="*/ 0 w 2536920"/>
                <a:gd name="textAreaRight" fmla="*/ 2536920 w 2536920"/>
                <a:gd name="textAreaTop" fmla="*/ 0 h 3102120"/>
                <a:gd name="textAreaBottom" fmla="*/ 3102480 h 3102120"/>
              </a:gdLst>
              <a:ahLst/>
              <a:rect l="textAreaLeft" t="textAreaTop" r="textAreaRight" b="textAreaBottom"/>
              <a:pathLst>
                <a:path w="1598" h="2018">
                  <a:moveTo>
                    <a:pt x="0" y="279"/>
                  </a:moveTo>
                  <a:cubicBezTo>
                    <a:pt x="583" y="139"/>
                    <a:pt x="1166" y="0"/>
                    <a:pt x="1382" y="290"/>
                  </a:cubicBezTo>
                  <a:cubicBezTo>
                    <a:pt x="1598" y="580"/>
                    <a:pt x="1448" y="1299"/>
                    <a:pt x="1299" y="2018"/>
                  </a:cubicBezTo>
                </a:path>
              </a:pathLst>
            </a:custGeom>
            <a:noFill/>
            <a:ln w="19080">
              <a:solidFill>
                <a:srgbClr val="99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>
              <a:off x="2160720" y="1236600"/>
              <a:ext cx="3262320" cy="3718080"/>
            </a:xfrm>
            <a:custGeom>
              <a:avLst/>
              <a:gdLst>
                <a:gd name="textAreaLeft" fmla="*/ 0 w 3262320"/>
                <a:gd name="textAreaRight" fmla="*/ 3262680 w 3262320"/>
                <a:gd name="textAreaTop" fmla="*/ 0 h 3718080"/>
                <a:gd name="textAreaBottom" fmla="*/ 3718440 h 3718080"/>
              </a:gdLst>
              <a:ahLst/>
              <a:rect l="textAreaLeft" t="textAreaTop" r="textAreaRight" b="textAreaBottom"/>
              <a:pathLst>
                <a:path w="2055" h="2342">
                  <a:moveTo>
                    <a:pt x="1886" y="708"/>
                  </a:moveTo>
                  <a:cubicBezTo>
                    <a:pt x="1970" y="565"/>
                    <a:pt x="2055" y="422"/>
                    <a:pt x="1980" y="321"/>
                  </a:cubicBezTo>
                  <a:cubicBezTo>
                    <a:pt x="1905" y="220"/>
                    <a:pt x="1688" y="0"/>
                    <a:pt x="1435" y="101"/>
                  </a:cubicBezTo>
                  <a:cubicBezTo>
                    <a:pt x="1182" y="202"/>
                    <a:pt x="700" y="555"/>
                    <a:pt x="461" y="928"/>
                  </a:cubicBezTo>
                  <a:cubicBezTo>
                    <a:pt x="222" y="1301"/>
                    <a:pt x="111" y="1821"/>
                    <a:pt x="0" y="2342"/>
                  </a:cubicBezTo>
                </a:path>
              </a:pathLst>
            </a:custGeom>
            <a:noFill/>
            <a:ln w="19080">
              <a:solidFill>
                <a:srgbClr val="99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128" name="Group 34"/>
          <p:cNvGrpSpPr/>
          <p:nvPr/>
        </p:nvGrpSpPr>
        <p:grpSpPr>
          <a:xfrm>
            <a:off x="1736640" y="1814400"/>
            <a:ext cx="5318280" cy="3173400"/>
            <a:chOff x="1736640" y="1814400"/>
            <a:chExt cx="5318280" cy="3173400"/>
          </a:xfrm>
        </p:grpSpPr>
        <p:sp>
          <p:nvSpPr>
            <p:cNvPr id="129" name="Freeform 25"/>
            <p:cNvSpPr/>
            <p:nvPr/>
          </p:nvSpPr>
          <p:spPr>
            <a:xfrm>
              <a:off x="1736640" y="1814400"/>
              <a:ext cx="2352600" cy="3173400"/>
            </a:xfrm>
            <a:custGeom>
              <a:avLst/>
              <a:gdLst>
                <a:gd name="textAreaLeft" fmla="*/ 0 w 2352600"/>
                <a:gd name="textAreaRight" fmla="*/ 2352960 w 2352600"/>
                <a:gd name="textAreaTop" fmla="*/ 0 h 3173400"/>
                <a:gd name="textAreaBottom" fmla="*/ 3173760 h 3173400"/>
              </a:gdLst>
              <a:ahLst/>
              <a:rect l="textAreaLeft" t="textAreaTop" r="textAreaRight" b="textAreaBottom"/>
              <a:pathLst>
                <a:path w="1482" h="1999">
                  <a:moveTo>
                    <a:pt x="1482" y="313"/>
                  </a:moveTo>
                  <a:cubicBezTo>
                    <a:pt x="977" y="156"/>
                    <a:pt x="472" y="0"/>
                    <a:pt x="236" y="281"/>
                  </a:cubicBezTo>
                  <a:cubicBezTo>
                    <a:pt x="0" y="562"/>
                    <a:pt x="96" y="1713"/>
                    <a:pt x="68" y="1999"/>
                  </a:cubicBezTo>
                </a:path>
              </a:pathLst>
            </a:custGeom>
            <a:noFill/>
            <a:ln w="19080">
              <a:solidFill>
                <a:srgbClr val="bbe0e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30" name="Freeform 26"/>
            <p:cNvSpPr/>
            <p:nvPr/>
          </p:nvSpPr>
          <p:spPr>
            <a:xfrm>
              <a:off x="4089240" y="1973160"/>
              <a:ext cx="2965680" cy="2981520"/>
            </a:xfrm>
            <a:custGeom>
              <a:avLst/>
              <a:gdLst>
                <a:gd name="textAreaLeft" fmla="*/ 0 w 2965680"/>
                <a:gd name="textAreaRight" fmla="*/ 2966040 w 2965680"/>
                <a:gd name="textAreaTop" fmla="*/ 0 h 2981520"/>
                <a:gd name="textAreaBottom" fmla="*/ 2981880 h 2981520"/>
              </a:gdLst>
              <a:ahLst/>
              <a:rect l="textAreaLeft" t="textAreaTop" r="textAreaRight" b="textAreaBottom"/>
              <a:pathLst>
                <a:path w="1868" h="1878">
                  <a:moveTo>
                    <a:pt x="0" y="223"/>
                  </a:moveTo>
                  <a:cubicBezTo>
                    <a:pt x="39" y="128"/>
                    <a:pt x="79" y="33"/>
                    <a:pt x="262" y="24"/>
                  </a:cubicBezTo>
                  <a:cubicBezTo>
                    <a:pt x="445" y="15"/>
                    <a:pt x="850" y="0"/>
                    <a:pt x="1100" y="171"/>
                  </a:cubicBezTo>
                  <a:cubicBezTo>
                    <a:pt x="1350" y="342"/>
                    <a:pt x="1652" y="767"/>
                    <a:pt x="1760" y="1051"/>
                  </a:cubicBezTo>
                  <a:cubicBezTo>
                    <a:pt x="1868" y="1335"/>
                    <a:pt x="1808" y="1606"/>
                    <a:pt x="1749" y="1878"/>
                  </a:cubicBezTo>
                </a:path>
              </a:pathLst>
            </a:custGeom>
            <a:noFill/>
            <a:ln w="19080">
              <a:solidFill>
                <a:srgbClr val="bbe0e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341280" y="1168560"/>
            <a:ext cx="6292800" cy="4236840"/>
            <a:chOff x="341280" y="1168560"/>
            <a:chExt cx="6292800" cy="4236840"/>
          </a:xfrm>
        </p:grpSpPr>
        <p:sp>
          <p:nvSpPr>
            <p:cNvPr id="132" name="Freeform 27"/>
            <p:cNvSpPr/>
            <p:nvPr/>
          </p:nvSpPr>
          <p:spPr>
            <a:xfrm>
              <a:off x="341280" y="3043080"/>
              <a:ext cx="3416400" cy="2327400"/>
            </a:xfrm>
            <a:custGeom>
              <a:avLst/>
              <a:gdLst>
                <a:gd name="textAreaLeft" fmla="*/ 0 w 3416400"/>
                <a:gd name="textAreaRight" fmla="*/ 3416760 w 341640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2152" h="1466">
                  <a:moveTo>
                    <a:pt x="2152" y="0"/>
                  </a:moveTo>
                  <a:cubicBezTo>
                    <a:pt x="1301" y="181"/>
                    <a:pt x="450" y="363"/>
                    <a:pt x="225" y="607"/>
                  </a:cubicBezTo>
                  <a:cubicBezTo>
                    <a:pt x="0" y="851"/>
                    <a:pt x="707" y="1323"/>
                    <a:pt x="801" y="1466"/>
                  </a:cubicBezTo>
                </a:path>
              </a:pathLst>
            </a:custGeom>
            <a:noFill/>
            <a:ln w="9360">
              <a:solidFill>
                <a:srgbClr val="ffff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33" name="Freeform 28"/>
            <p:cNvSpPr/>
            <p:nvPr/>
          </p:nvSpPr>
          <p:spPr>
            <a:xfrm>
              <a:off x="3475080" y="1168560"/>
              <a:ext cx="3159000" cy="4236840"/>
            </a:xfrm>
            <a:custGeom>
              <a:avLst/>
              <a:gdLst>
                <a:gd name="textAreaLeft" fmla="*/ 0 w 3159000"/>
                <a:gd name="textAreaRight" fmla="*/ 3159360 w 3159000"/>
                <a:gd name="textAreaTop" fmla="*/ 0 h 4236840"/>
                <a:gd name="textAreaBottom" fmla="*/ 4237200 h 4236840"/>
              </a:gdLst>
              <a:ahLst/>
              <a:rect l="textAreaLeft" t="textAreaTop" r="textAreaRight" b="textAreaBottom"/>
              <a:pathLst>
                <a:path w="1990" h="2669">
                  <a:moveTo>
                    <a:pt x="178" y="1181"/>
                  </a:moveTo>
                  <a:cubicBezTo>
                    <a:pt x="89" y="994"/>
                    <a:pt x="0" y="808"/>
                    <a:pt x="0" y="646"/>
                  </a:cubicBezTo>
                  <a:cubicBezTo>
                    <a:pt x="0" y="484"/>
                    <a:pt x="75" y="312"/>
                    <a:pt x="178" y="207"/>
                  </a:cubicBezTo>
                  <a:cubicBezTo>
                    <a:pt x="281" y="102"/>
                    <a:pt x="468" y="36"/>
                    <a:pt x="618" y="18"/>
                  </a:cubicBezTo>
                  <a:cubicBezTo>
                    <a:pt x="768" y="0"/>
                    <a:pt x="932" y="51"/>
                    <a:pt x="1078" y="102"/>
                  </a:cubicBezTo>
                  <a:cubicBezTo>
                    <a:pt x="1224" y="153"/>
                    <a:pt x="1356" y="191"/>
                    <a:pt x="1497" y="322"/>
                  </a:cubicBezTo>
                  <a:cubicBezTo>
                    <a:pt x="1638" y="453"/>
                    <a:pt x="1864" y="657"/>
                    <a:pt x="1927" y="887"/>
                  </a:cubicBezTo>
                  <a:cubicBezTo>
                    <a:pt x="1990" y="1117"/>
                    <a:pt x="1897" y="1529"/>
                    <a:pt x="1874" y="1704"/>
                  </a:cubicBezTo>
                  <a:cubicBezTo>
                    <a:pt x="1851" y="1879"/>
                    <a:pt x="1826" y="1794"/>
                    <a:pt x="1791" y="1935"/>
                  </a:cubicBezTo>
                  <a:cubicBezTo>
                    <a:pt x="1756" y="2076"/>
                    <a:pt x="1641" y="2435"/>
                    <a:pt x="1665" y="2552"/>
                  </a:cubicBezTo>
                  <a:cubicBezTo>
                    <a:pt x="1689" y="2669"/>
                    <a:pt x="1813" y="2652"/>
                    <a:pt x="1937" y="2636"/>
                  </a:cubicBezTo>
                </a:path>
              </a:pathLst>
            </a:custGeom>
            <a:noFill/>
            <a:ln w="19080">
              <a:solidFill>
                <a:srgbClr val="ffff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134" name="Group 31"/>
          <p:cNvGrpSpPr/>
          <p:nvPr/>
        </p:nvGrpSpPr>
        <p:grpSpPr>
          <a:xfrm>
            <a:off x="2260440" y="3940200"/>
            <a:ext cx="4505400" cy="2289240"/>
            <a:chOff x="2260440" y="3940200"/>
            <a:chExt cx="4505400" cy="2289240"/>
          </a:xfrm>
        </p:grpSpPr>
        <p:sp>
          <p:nvSpPr>
            <p:cNvPr id="135" name="Freeform 29"/>
            <p:cNvSpPr/>
            <p:nvPr/>
          </p:nvSpPr>
          <p:spPr>
            <a:xfrm>
              <a:off x="2260440" y="3940200"/>
              <a:ext cx="2211480" cy="2289240"/>
            </a:xfrm>
            <a:custGeom>
              <a:avLst/>
              <a:gdLst>
                <a:gd name="textAreaLeft" fmla="*/ 0 w 2211480"/>
                <a:gd name="textAreaRight" fmla="*/ 2211840 w 2211480"/>
                <a:gd name="textAreaTop" fmla="*/ 0 h 2289240"/>
                <a:gd name="textAreaBottom" fmla="*/ 2289600 h 2289240"/>
              </a:gdLst>
              <a:ahLst/>
              <a:rect l="textAreaLeft" t="textAreaTop" r="textAreaRight" b="textAreaBottom"/>
              <a:pathLst>
                <a:path w="1393" h="1442">
                  <a:moveTo>
                    <a:pt x="1393" y="0"/>
                  </a:moveTo>
                  <a:cubicBezTo>
                    <a:pt x="1315" y="525"/>
                    <a:pt x="1238" y="1050"/>
                    <a:pt x="1006" y="1246"/>
                  </a:cubicBezTo>
                  <a:cubicBezTo>
                    <a:pt x="774" y="1442"/>
                    <a:pt x="387" y="1307"/>
                    <a:pt x="0" y="1173"/>
                  </a:cubicBezTo>
                </a:path>
              </a:pathLst>
            </a:custGeom>
            <a:noFill/>
            <a:ln w="1908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36" name="Freeform 30"/>
            <p:cNvSpPr/>
            <p:nvPr/>
          </p:nvSpPr>
          <p:spPr>
            <a:xfrm>
              <a:off x="4471920" y="3940200"/>
              <a:ext cx="2293920" cy="2178000"/>
            </a:xfrm>
            <a:custGeom>
              <a:avLst/>
              <a:gdLst>
                <a:gd name="textAreaLeft" fmla="*/ 0 w 2293920"/>
                <a:gd name="textAreaRight" fmla="*/ 2294280 w 2293920"/>
                <a:gd name="textAreaTop" fmla="*/ 0 h 2178000"/>
                <a:gd name="textAreaBottom" fmla="*/ 2178360 h 2178000"/>
              </a:gdLst>
              <a:ahLst/>
              <a:rect l="textAreaLeft" t="textAreaTop" r="textAreaRight" b="textAreaBottom"/>
              <a:pathLst>
                <a:path w="1445" h="1372">
                  <a:moveTo>
                    <a:pt x="0" y="0"/>
                  </a:moveTo>
                  <a:cubicBezTo>
                    <a:pt x="78" y="497"/>
                    <a:pt x="157" y="994"/>
                    <a:pt x="398" y="1183"/>
                  </a:cubicBezTo>
                  <a:cubicBezTo>
                    <a:pt x="639" y="1372"/>
                    <a:pt x="1042" y="1251"/>
                    <a:pt x="1445" y="1131"/>
                  </a:cubicBezTo>
                </a:path>
              </a:pathLst>
            </a:custGeom>
            <a:noFill/>
            <a:ln w="1908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4"/>
          <p:cNvSpPr/>
          <p:nvPr/>
        </p:nvSpPr>
        <p:spPr>
          <a:xfrm>
            <a:off x="1990440" y="228600"/>
            <a:ext cx="51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99"/>
                </a:solidFill>
                <a:latin typeface="Arial"/>
              </a:rPr>
              <a:t>LJESTVICE MJERENJA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379800" y="100656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NOMINALN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79800" y="1920960"/>
            <a:ext cx="25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ORDINALN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380160" y="3197160"/>
            <a:ext cx="27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INTERVALN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379440" y="4911840"/>
            <a:ext cx="21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OMJERN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381960" y="143028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9999"/>
                </a:solidFill>
                <a:latin typeface="Arial"/>
              </a:rPr>
              <a:t>broj stoji umjesto imena (npr. spol – muški=0, žene=1)</a:t>
            </a:r>
            <a:r>
              <a:rPr b="0" lang="hr-HR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88800" y="2333520"/>
            <a:ext cx="854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9999"/>
                </a:solidFill>
                <a:latin typeface="Arial"/>
              </a:rPr>
              <a:t>brojevi označavaju redoslijed, ali ne znamo KOLIKE su razlik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9999"/>
                </a:solidFill>
                <a:latin typeface="Arial"/>
              </a:rPr>
              <a:t>(npr. školske ocjene – 1, 2, 3, 4, 5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379440" y="3598920"/>
            <a:ext cx="832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9999"/>
                </a:solidFill>
                <a:latin typeface="Arial"/>
              </a:rPr>
              <a:t>imamo redoslijed i razlike ali brojčani odnosi ne označavaju odnose u mjerenoj pojavi jer nema apsolutne nule </a:t>
            </a:r>
            <a:br>
              <a:rPr sz="2400"/>
            </a:br>
            <a:r>
              <a:rPr b="0" lang="hr-HR" sz="2400" spc="-1" strike="noStrike">
                <a:solidFill>
                  <a:srgbClr val="ff9999"/>
                </a:solidFill>
                <a:latin typeface="Arial"/>
              </a:rPr>
              <a:t>(npr. temperatura – 20</a:t>
            </a:r>
            <a:r>
              <a:rPr b="0" lang="en-US" sz="2400" spc="-1" strike="noStrike">
                <a:solidFill>
                  <a:srgbClr val="ff9999"/>
                </a:solidFill>
                <a:latin typeface="Arial"/>
                <a:ea typeface="Arial"/>
              </a:rPr>
              <a:t>º</a:t>
            </a:r>
            <a:r>
              <a:rPr b="0" lang="hr-HR" sz="2400" spc="-1" strike="noStrike">
                <a:solidFill>
                  <a:srgbClr val="ff9999"/>
                </a:solidFill>
                <a:latin typeface="Arial"/>
                <a:ea typeface="Arial"/>
              </a:rPr>
              <a:t>C nije dvostruko toplije od 10</a:t>
            </a:r>
            <a:r>
              <a:rPr b="0" lang="en-US" sz="2400" spc="-1" strike="noStrike">
                <a:solidFill>
                  <a:srgbClr val="ff9999"/>
                </a:solidFill>
                <a:latin typeface="Arial"/>
              </a:rPr>
              <a:t>º</a:t>
            </a:r>
            <a:r>
              <a:rPr b="0" lang="hr-HR" sz="2400" spc="-1" strike="noStrike">
                <a:solidFill>
                  <a:srgbClr val="ff9999"/>
                </a:solidFill>
                <a:latin typeface="Arial"/>
              </a:rPr>
              <a:t>C)</a:t>
            </a: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379440" y="5321160"/>
            <a:ext cx="815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9999"/>
                </a:solidFill>
                <a:latin typeface="Arial"/>
              </a:rPr>
              <a:t>brojčani odnosi označavaju odnose u mjerenoj pojavi jer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9999"/>
                </a:solidFill>
                <a:latin typeface="Arial"/>
              </a:rPr>
              <a:t>postoji apsolutna nul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9999"/>
                </a:solidFill>
                <a:latin typeface="Arial"/>
              </a:rPr>
              <a:t>(npr. dužina – 20 cm je dvostruko duže od 10 cm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8360" y="184320"/>
            <a:ext cx="91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99"/>
                </a:solidFill>
                <a:latin typeface="Arial"/>
              </a:rPr>
              <a:t>LJESTVICE MJERENJA-dopušteni postupci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47" name="Group 11"/>
          <p:cNvGrpSpPr/>
          <p:nvPr/>
        </p:nvGrpSpPr>
        <p:grpSpPr>
          <a:xfrm>
            <a:off x="360360" y="901800"/>
            <a:ext cx="8464320" cy="5738760"/>
            <a:chOff x="360360" y="901800"/>
            <a:chExt cx="8464320" cy="5738760"/>
          </a:xfrm>
        </p:grpSpPr>
        <p:sp>
          <p:nvSpPr>
            <p:cNvPr id="148" name="Text Box 3"/>
            <p:cNvSpPr/>
            <p:nvPr/>
          </p:nvSpPr>
          <p:spPr>
            <a:xfrm>
              <a:off x="360720" y="901800"/>
              <a:ext cx="305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99"/>
                  </a:solidFill>
                  <a:latin typeface="Arial"/>
                </a:rPr>
                <a:t>1. NOMINALNA</a:t>
              </a: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49" name="Text Box 4"/>
            <p:cNvSpPr/>
            <p:nvPr/>
          </p:nvSpPr>
          <p:spPr>
            <a:xfrm>
              <a:off x="360360" y="2265480"/>
              <a:ext cx="300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99"/>
                  </a:solidFill>
                  <a:latin typeface="Arial"/>
                </a:rPr>
                <a:t>2. ORDINALNA</a:t>
              </a: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50" name="Text Box 5"/>
            <p:cNvSpPr/>
            <p:nvPr/>
          </p:nvSpPr>
          <p:spPr>
            <a:xfrm>
              <a:off x="361080" y="3586320"/>
              <a:ext cx="31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99"/>
                  </a:solidFill>
                  <a:latin typeface="Arial"/>
                </a:rPr>
                <a:t>3. INTERVALNA</a:t>
              </a: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360360" y="5286240"/>
              <a:ext cx="262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99"/>
                  </a:solidFill>
                  <a:latin typeface="Arial"/>
                </a:rPr>
                <a:t>4. OMJERNA</a:t>
              </a: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52" name="Text Box 7"/>
            <p:cNvSpPr/>
            <p:nvPr/>
          </p:nvSpPr>
          <p:spPr>
            <a:xfrm>
              <a:off x="389880" y="1430280"/>
              <a:ext cx="667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9999"/>
                  </a:solidFill>
                  <a:latin typeface="Arial"/>
                </a:rPr>
                <a:t>Dominantna vrijednost, račun proporcija, </a:t>
              </a:r>
              <a:r>
                <a:rPr b="0" lang="el-GR" sz="2400" spc="-1" strike="noStrike">
                  <a:solidFill>
                    <a:srgbClr val="ff9999"/>
                  </a:solidFill>
                  <a:latin typeface="Arial"/>
                  <a:ea typeface="Arial"/>
                </a:rPr>
                <a:t>χ</a:t>
              </a:r>
              <a:r>
                <a:rPr b="0" lang="hr-HR" sz="2400" spc="-1" strike="noStrike" baseline="30000">
                  <a:solidFill>
                    <a:srgbClr val="ff9999"/>
                  </a:solidFill>
                  <a:latin typeface="Arial"/>
                  <a:ea typeface="Arial"/>
                </a:rPr>
                <a:t>2</a:t>
              </a:r>
              <a:r>
                <a:rPr b="0" lang="hr-HR" sz="2400" spc="-1" strike="noStrike">
                  <a:solidFill>
                    <a:srgbClr val="ff9999"/>
                  </a:solidFill>
                  <a:latin typeface="Arial"/>
                  <a:ea typeface="Arial"/>
                </a:rPr>
                <a:t>-test,</a:t>
              </a:r>
              <a:br>
                <a:rPr sz="2400"/>
              </a:br>
              <a:r>
                <a:rPr b="0" lang="hr-HR" sz="2400" spc="-1" strike="noStrike">
                  <a:solidFill>
                    <a:srgbClr val="ff9999"/>
                  </a:solidFill>
                  <a:latin typeface="Arial"/>
                  <a:ea typeface="Arial"/>
                </a:rPr>
                <a:t>Cramerov Fi, koeficijent kontingencije C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65400" y="2782800"/>
              <a:ext cx="845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9999"/>
                  </a:solidFill>
                  <a:latin typeface="Arial"/>
                </a:rPr>
                <a:t>Sve pod 1 + centralna vrijednost, koeficijent korelacije </a:t>
              </a:r>
              <a:r>
                <a:rPr b="0" lang="el-GR" sz="2400" spc="-1" strike="noStrike">
                  <a:solidFill>
                    <a:srgbClr val="ff9999"/>
                  </a:solidFill>
                  <a:latin typeface="Arial"/>
                  <a:ea typeface="Arial"/>
                </a:rPr>
                <a:t>ρ</a:t>
              </a:r>
              <a:r>
                <a:rPr b="0" lang="hr-HR" sz="2400" spc="-1" strike="noStrike">
                  <a:solidFill>
                    <a:srgbClr val="ff9999"/>
                  </a:solidFill>
                  <a:latin typeface="Arial"/>
                  <a:ea typeface="Arial"/>
                </a:rPr>
                <a:t> (Ro),</a:t>
              </a:r>
              <a:br>
                <a:rPr sz="2400"/>
              </a:br>
              <a:r>
                <a:rPr b="0" lang="hr-HR" sz="2400" spc="-1" strike="noStrike">
                  <a:solidFill>
                    <a:srgbClr val="ff9999"/>
                  </a:solidFill>
                  <a:latin typeface="Arial"/>
                  <a:ea typeface="Arial"/>
                </a:rPr>
                <a:t>Tau, Theta i koeficijent W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360360" y="4122720"/>
              <a:ext cx="8326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9999"/>
                  </a:solidFill>
                  <a:latin typeface="Arial"/>
                </a:rPr>
                <a:t>Sve pod 1 i 2 + aritmetička sredina, standardna devijacija,</a:t>
              </a:r>
              <a:br>
                <a:rPr sz="2400"/>
              </a:br>
              <a:r>
                <a:rPr b="0" lang="hr-HR" sz="2400" spc="-1" strike="noStrike">
                  <a:solidFill>
                    <a:srgbClr val="ff9999"/>
                  </a:solidFill>
                  <a:latin typeface="Arial"/>
                </a:rPr>
                <a:t>z-vrijednosti i koeficijent korelacije r (uključujući parcijalnu i multiplu korelaciju)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360360" y="5815080"/>
              <a:ext cx="815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ff9999"/>
                  </a:solidFill>
                  <a:latin typeface="Arial"/>
                </a:rPr>
                <a:t>Sve pod 1, 2 i 3 + geometrijska sredina i koeficijent varijabilnosti V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156" name="Group 15"/>
          <p:cNvGrpSpPr/>
          <p:nvPr/>
        </p:nvGrpSpPr>
        <p:grpSpPr>
          <a:xfrm>
            <a:off x="392040" y="3171960"/>
            <a:ext cx="2183040" cy="3046320"/>
            <a:chOff x="392040" y="3171960"/>
            <a:chExt cx="2183040" cy="3046320"/>
          </a:xfrm>
        </p:grpSpPr>
        <p:sp>
          <p:nvSpPr>
            <p:cNvPr id="157" name="Line 12"/>
            <p:cNvSpPr/>
            <p:nvPr/>
          </p:nvSpPr>
          <p:spPr>
            <a:xfrm>
              <a:off x="392040" y="3171960"/>
              <a:ext cx="1435320" cy="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 flipV="1">
              <a:off x="422280" y="4525560"/>
              <a:ext cx="1846080" cy="180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>
              <a:off x="414360" y="6218280"/>
              <a:ext cx="2160720" cy="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9:58:19Z</dcterms:created>
  <dc:creator>Darko Hren</dc:creator>
  <dc:description/>
  <dc:language>en-US</dc:language>
  <cp:lastModifiedBy>HUM</cp:lastModifiedBy>
  <dcterms:modified xsi:type="dcterms:W3CDTF">2017-02-20T09:10:01Z</dcterms:modified>
  <cp:revision>288</cp:revision>
  <dc:subject/>
  <dc:title>Slide 1</dc:title>
</cp:coreProperties>
</file>