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230-ED1B-4862-9CE6-EEFE7F7A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263-09C2-4AB8-A9D2-C5899CC2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5CB-6FB2-4150-B056-9030B808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C62-67EF-4357-B4E1-B4838875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073-A7D5-4512-A92D-837748A7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746-6685-4894-8625-F14A604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809-3E75-442E-9606-058CD797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041-2CF5-47B3-AD31-E232C3F2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CC2-39BC-4357-9F9B-22FEB677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B0A-CA59-4ABB-AFE4-8150A39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6AA-F51D-4FE4-A9DF-92BDBFC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9DC-7453-42EB-A03A-123579B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60C8-0CF2-4FC9-8943-D3AA30B632C2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0560" y="18900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BOR ODGOVARAJUĆEG STATISTIČKOG POSTUP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tat_testovi"/>
          <p:cNvPicPr/>
          <p:nvPr/>
        </p:nvPicPr>
        <p:blipFill>
          <a:blip r:embed="rId1"/>
          <a:stretch/>
        </p:blipFill>
        <p:spPr>
          <a:xfrm>
            <a:off x="0" y="74124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8:10:55Z</dcterms:created>
  <dc:creator>Marko Gašpić</dc:creator>
  <dc:description/>
  <dc:language>en-US</dc:language>
  <cp:lastModifiedBy>HUM</cp:lastModifiedBy>
  <cp:lastPrinted>2004-10-11T08:11:08Z</cp:lastPrinted>
  <dcterms:modified xsi:type="dcterms:W3CDTF">2017-02-20T09:10:38Z</dcterms:modified>
  <cp:revision>1</cp:revision>
  <dc:subject/>
  <dc:title>Slide 1</dc:title>
</cp:coreProperties>
</file>